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9.jpeg" ContentType="image/jpeg"/>
  <Override PartName="/ppt/media/image1.jpeg" ContentType="image/jpe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move the slide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7ED3-B13F-4CC4-A746-C1A684615C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1EA8-B54D-49E0-AB1C-EAA0E3F9732C}" type="slidenum">
              <a:rPr b="0" lang="ru-RU" sz="12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D00D-B180-48D1-88C8-E6601B25F630}" type="slidenum">
              <a:rPr b="0" lang="ru-RU" sz="12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9B5D-DDDE-4FF5-9ACC-8CB12EB2B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DEA8-B598-43ED-A93B-CB223CA5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04EF0-418C-4065-91A2-9F7EBE9A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7C8242-FCCD-414D-9882-8E41CF98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9BDDB-981F-457B-8553-2465677B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28420-5AC5-4B63-917E-B366E540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3479C-74E5-4E54-BA8F-A8FF8088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DEB56-6F1F-423F-B007-597030AA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A708E-5480-45F2-A33C-6BEDAD8E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D2A2C8-4F5D-47B6-A0BA-7D2DA0F0B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C329A-9E25-469F-A95F-6484273A9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2F4C60-D926-4905-A369-85761F688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77A9-C53A-462A-8E0A-292C1EEDC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F5F7FB-FF33-49C4-A083-5B465C52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2FDAD2-A231-4418-85FF-F902C7A7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B3D2C-7D38-4B8B-AD7E-82E049E1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056F41-D77E-43A9-A184-333F6283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32C267-907C-44A8-89D5-2BFA0FBA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B20AE-CBAE-4A72-B772-C86B9576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8FE9C3-3EC6-4EF8-A271-FF2E11A2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7F3AD0-2AE7-43E1-830F-F83C0D58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9FDA85-1CDB-4F01-97AF-3A15F7BB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7255A-71BE-426D-9189-0B6B4E0E0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C073-D24C-43EC-AD3E-0BA911431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C495F4-FABD-409F-BDBD-9F417FCAF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737153-983F-4C06-A578-F350B93BB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500A8-B357-44C3-8633-F1D5B931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D7D73-2012-44A6-BB2E-EA61FC69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20C68-C7C7-4464-97EA-C6B04CBA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EAF5B-0290-47D0-9EAA-B0BF4F99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C34C5-D367-4B76-9142-75C8BF31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6B4BD-8736-4583-B54C-01F603EF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32218-5E64-4D57-ACC0-F4C68D17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D6A01-95D6-414F-B53A-AA00FCE4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45CB-BAD1-4BC6-9179-C5483E3BB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BA4DAC-C65B-4F55-8AA1-3ABB84BD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C67D4-2E22-4911-BA2C-BAE754AF1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45A46-1A0D-4E5A-96E7-420C44EB0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DC4C4C-FF94-418B-BC14-FB964FC14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6BF584-5B04-4A2F-BA32-7B568E04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65A1DC-EF70-4E64-8367-79FAB224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A9AC0A-97BF-4221-9EDF-9B70DFA0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0C0796-C135-4095-BEB4-9790844C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7BE21A-9AB5-4E26-8387-7BAF4FC2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F8C1A-F6BB-4459-8D73-14263591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F1EC-E230-44AC-B0FD-CF85D77F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C031F8-ED8C-4EC7-98C7-8BD823F4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B11341-4746-4359-A3EB-9DF1A228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FD7DC-9913-477F-BCF2-E35B5F9F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CFF083-25AB-4ABE-9121-FF9CBFA0D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28F6EC-0DE3-40AD-9AB8-4E2C5E83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0547-41E3-448D-AF55-05D9EBE0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AB1B-6143-450E-8EFA-FAE181B9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3266-3DC4-49C1-B49D-447E61DB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E3E2-8EFC-4E2E-836C-239970C3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9B6A-CA5A-463C-960D-E5FAFAE2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C608-C11D-468D-87AD-EE45F79C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8E23-059F-45EF-8285-D9F2BF53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E908-A194-4E77-86B9-96BBC036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7A6A-7DB3-4126-BF8A-F6199BA0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B632-821F-4E21-9A4A-44075C3C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9076-6F56-415F-AB53-79AC01CF7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3B589-FCB3-4319-88CB-0CA87238A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5D064-7B7E-4C01-81F7-407032ED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B8961-5BE8-44AE-9B8B-CD840632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88C75-A4EB-45FE-AC7C-3065BC1D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5C0DC-2D52-492C-80C2-61AA7443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DF5A-E5B3-424B-90BE-BED0AFE9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265A7-1184-4D67-A39F-A185C22A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E0190-F47B-407A-B0D3-DBBBA444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8A598-C028-4CD4-AE5F-EA70C143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F866D-DBED-4DA1-AB03-3231917B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4C7A7-FE8A-4CD5-8F7E-B802FAE6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B94B0-4FAE-4501-8764-6FEA4AEB8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70E82-8FD2-4E8A-8402-79654BE12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59DB7-D066-48F1-9AF3-A62491426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B3019-0083-4E42-BE4B-463B2CD1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C2861-6B11-4A6D-B8A0-8ABBE3C8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38D4-366C-4882-95CF-5E0F1B3F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7218D-B8C6-4792-9DDB-7A10CA24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DEB8A-922B-413C-A44E-DCE49F71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161C5-1056-41A2-9B25-D8BFC5DB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59DB9-57BE-4B95-B0BF-6151A0E5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2E8F5-10D4-42A4-AEE8-35313084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2AF31-A98F-40BF-A28E-40D09866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854BC-AFCC-4972-8181-F6D41FE9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78DDC-55BA-4A77-9EBA-3AE9B541C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CF2B3-3FA6-4900-A51F-6FB9F6AEC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27BBD-AB77-4012-9E26-8785F656B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0BFD-E5D3-496B-8228-3B6F793C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F448E-8C4E-4A48-BC38-B8CD8488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56F96-51E8-4BCD-84AC-03CAE492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FD2E0-6ADA-45F6-96E1-6910F8BB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7DBD8-E566-4CB0-8028-D0DD3DA1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2D36B-5038-42D5-B02E-D9529228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563B2-371F-482C-826F-788444D5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B7775-0234-42B0-9455-2520DEA5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4B0B5-D03F-4249-AEB3-BB5E3D5C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0CE32-1EE3-403D-8A24-FF368DDE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51A37-A818-482B-A5A2-52456A8B3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80E0-D38D-4484-B009-E0801A60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E8045-0B78-48EF-9473-7AD7B5809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7FD23-C128-4FD3-9758-C9456D714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02C0A-2147-4639-AD4A-8EA3E3AB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85F83-7709-44A5-A442-8C542619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8EB9A-8F96-435C-B359-0EFCBDED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C54D3-146B-4721-899D-033D23B4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FFE69-DBA9-4CD3-878A-256CC589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482C1-BABA-44C1-B806-C3C6B0B2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9FA29-D4EF-49B3-B89F-B05E8129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F3A19-02A6-4C3D-95EB-76438757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6B6F-DB71-4CEC-BDE3-EF16CAC2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FBCFF-E247-4037-AB99-F8B4CF59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5AA62-5449-41A6-B078-27754E0A7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CC66D-847B-4C9D-A00D-4FC34C80C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A229C-235C-404C-B360-3A4DE1E17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9CAB3-7259-4EB1-9820-2843FEBD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8194A-EC22-46AD-AB65-DE0D9D85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BA192-4F44-4B94-9176-861E685D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0AEED-0E8A-4901-8BC9-F55B4B54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53503-78F7-4C4B-9594-E7F3FCD5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45C62-98A3-4827-86A7-5F456CE0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5FB2-125D-45F0-9D7D-FE370ACC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82F17-5650-4E29-A054-6F363CDF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86B89-D5F4-4234-A059-E8973953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3E3D8-998A-4883-84F7-AADD8813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C354C-5662-4DC4-B0BD-34F4AF726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3E71E-2FA3-4E83-8B7C-22A80AFB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2F446-526D-451E-AF81-D1940C08C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6E7BF-6C34-4274-AD80-664869A6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04784-3EA5-49D6-AF98-B74E6A8A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9F7C1-F83C-400C-8F32-E0FAF95F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77E3E-A0B6-4A72-A0E0-904425DD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F274-AB29-4D08-BA07-41788221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1FCC7-9946-49EF-9C77-F04693B5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0118A-D6E1-47B3-9593-87C97B44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F3BD3-F2D1-4244-BAEE-09742081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E76E0-1DC8-4E65-B258-D68EB41E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9E1F0-B5B7-4F75-BD66-99317E3B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857CB-1D15-457A-B4B8-D6DC73A0A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403D9-C5B9-4D86-AC85-F4C094904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6A542-359E-4AA3-964A-999FF2CBD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67E0A-76CF-498A-AAAB-0062BA50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15C3D-27CE-46F4-921C-B9B63C14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2560" y="6095520"/>
            <a:ext cx="1523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120" y="6095520"/>
            <a:ext cx="3124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2440" y="531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919D-3D4A-4304-B1E4-6733DFA5CA44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Rounded Rectangle 14"/>
          <p:cNvSpPr/>
          <p:nvPr/>
        </p:nvSpPr>
        <p:spPr>
          <a:xfrm rot="900000">
            <a:off x="-533160" y="-979560"/>
            <a:ext cx="6672240" cy="6821640"/>
          </a:xfrm>
          <a:custGeom>
            <a:avLst/>
            <a:gdLst/>
            <a:ahLst/>
            <a:rect l="l" t="t" r="r" b="b"/>
            <a:pathLst>
              <a:path w="6672870" h="6821601">
                <a:moveTo>
                  <a:pt x="0" y="1787990"/>
                </a:moveTo>
                <a:lnTo>
                  <a:pt x="6672870" y="0"/>
                </a:lnTo>
                <a:lnTo>
                  <a:pt x="6672870" y="6739511"/>
                </a:lnTo>
                <a:cubicBezTo>
                  <a:pt x="6672870" y="6784848"/>
                  <a:pt x="6636117" y="6821601"/>
                  <a:pt x="6590780" y="6821601"/>
                </a:cubicBezTo>
                <a:lnTo>
                  <a:pt x="1348753" y="6821601"/>
                </a:lnTo>
                <a:lnTo>
                  <a:pt x="0" y="178799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2" name="Rounded Rectangle 15"/>
          <p:cNvSpPr/>
          <p:nvPr/>
        </p:nvSpPr>
        <p:spPr>
          <a:xfrm rot="900000">
            <a:off x="-283680" y="5968800"/>
            <a:ext cx="5300640" cy="1496880"/>
          </a:xfrm>
          <a:custGeom>
            <a:avLst/>
            <a:gdLst/>
            <a:ahLst/>
            <a:rect l="l" t="t" r="r" b="b"/>
            <a:pathLst>
              <a:path w="5300494" h="1495954">
                <a:moveTo>
                  <a:pt x="0" y="0"/>
                </a:moveTo>
                <a:lnTo>
                  <a:pt x="5218404" y="0"/>
                </a:lnTo>
                <a:cubicBezTo>
                  <a:pt x="5263741" y="0"/>
                  <a:pt x="5300494" y="36753"/>
                  <a:pt x="5300494" y="82090"/>
                </a:cubicBezTo>
                <a:lnTo>
                  <a:pt x="5300494" y="183095"/>
                </a:lnTo>
                <a:lnTo>
                  <a:pt x="400840" y="1495954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3" name="Rounded Rectangle 16"/>
          <p:cNvSpPr/>
          <p:nvPr/>
        </p:nvSpPr>
        <p:spPr>
          <a:xfrm rot="900000">
            <a:off x="6931080" y="-242640"/>
            <a:ext cx="2433600" cy="1384560"/>
          </a:xfrm>
          <a:custGeom>
            <a:avLst/>
            <a:gdLst/>
            <a:ahLst/>
            <a:rect l="l" t="t" r="r" b="b"/>
            <a:pathLst>
              <a:path w="2434235" h="1383623">
                <a:moveTo>
                  <a:pt x="0" y="552912"/>
                </a:moveTo>
                <a:lnTo>
                  <a:pt x="2063495" y="0"/>
                </a:lnTo>
                <a:lnTo>
                  <a:pt x="2434235" y="1383623"/>
                </a:lnTo>
                <a:lnTo>
                  <a:pt x="82090" y="1383622"/>
                </a:lnTo>
                <a:cubicBezTo>
                  <a:pt x="36754" y="1383622"/>
                  <a:pt x="0" y="1346869"/>
                  <a:pt x="0" y="1301533"/>
                </a:cubicBezTo>
                <a:lnTo>
                  <a:pt x="0" y="552912"/>
                </a:ln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4" name="Rounded Rectangle 17"/>
          <p:cNvSpPr/>
          <p:nvPr/>
        </p:nvSpPr>
        <p:spPr>
          <a:xfrm rot="900000">
            <a:off x="5899320" y="1282680"/>
            <a:ext cx="3843000" cy="6178680"/>
          </a:xfrm>
          <a:custGeom>
            <a:avLst/>
            <a:gdLst/>
            <a:ahLst/>
            <a:rect l="l" t="t" r="r" b="b"/>
            <a:pathLst>
              <a:path w="3842742" h="6178450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2463128" y="0"/>
                </a:lnTo>
                <a:lnTo>
                  <a:pt x="3842742" y="5148790"/>
                </a:lnTo>
                <a:lnTo>
                  <a:pt x="0" y="6178450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 rot="900000">
            <a:off x="6992280" y="5713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 rot="900000">
            <a:off x="647280" y="5161680"/>
            <a:ext cx="2976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 rot="900000">
            <a:off x="7046640" y="390600"/>
            <a:ext cx="196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6EBE-5B97-4476-9ADD-986B698B487A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7" name="Rounded Rectangle 11"/>
          <p:cNvSpPr/>
          <p:nvPr/>
        </p:nvSpPr>
        <p:spPr>
          <a:xfrm rot="20707200">
            <a:off x="-894960" y="-766800"/>
            <a:ext cx="8332920" cy="5894280"/>
          </a:xfrm>
          <a:custGeom>
            <a:avLst/>
            <a:gdLst/>
            <a:ahLst/>
            <a:rect l="l" t="t" r="r" b="b"/>
            <a:pathLst>
              <a:path w="8332816" h="5894380">
                <a:moveTo>
                  <a:pt x="1565164" y="0"/>
                </a:moveTo>
                <a:lnTo>
                  <a:pt x="8332816" y="1797049"/>
                </a:lnTo>
                <a:lnTo>
                  <a:pt x="8332816" y="5812290"/>
                </a:lnTo>
                <a:cubicBezTo>
                  <a:pt x="8332816" y="5857627"/>
                  <a:pt x="8296063" y="5894380"/>
                  <a:pt x="8250726" y="5894380"/>
                </a:cubicBezTo>
                <a:lnTo>
                  <a:pt x="0" y="5894380"/>
                </a:lnTo>
                <a:lnTo>
                  <a:pt x="1565164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8" name="Rounded Rectangle 12"/>
          <p:cNvSpPr/>
          <p:nvPr/>
        </p:nvSpPr>
        <p:spPr>
          <a:xfrm rot="20707200">
            <a:off x="65160" y="5089320"/>
            <a:ext cx="8528040" cy="2911320"/>
          </a:xfrm>
          <a:custGeom>
            <a:avLst/>
            <a:gdLst/>
            <a:ahLst/>
            <a:rect l="l" t="t" r="r" b="b"/>
            <a:pathLst>
              <a:path w="8528044" h="2911464">
                <a:moveTo>
                  <a:pt x="8477907" y="6451"/>
                </a:moveTo>
                <a:cubicBezTo>
                  <a:pt x="8507371" y="18913"/>
                  <a:pt x="8528044" y="48087"/>
                  <a:pt x="8528044" y="82090"/>
                </a:cubicBezTo>
                <a:lnTo>
                  <a:pt x="8528044" y="2911464"/>
                </a:lnTo>
                <a:lnTo>
                  <a:pt x="0" y="646970"/>
                </a:lnTo>
                <a:lnTo>
                  <a:pt x="171794" y="0"/>
                </a:lnTo>
                <a:lnTo>
                  <a:pt x="8445954" y="0"/>
                </a:lnTo>
                <a:cubicBezTo>
                  <a:pt x="8457288" y="0"/>
                  <a:pt x="8468086" y="2297"/>
                  <a:pt x="8477907" y="6451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9" name="Rounded Rectangle 13"/>
          <p:cNvSpPr/>
          <p:nvPr/>
        </p:nvSpPr>
        <p:spPr>
          <a:xfrm rot="20707200">
            <a:off x="8534160" y="3839760"/>
            <a:ext cx="1011240" cy="2994120"/>
          </a:xfrm>
          <a:custGeom>
            <a:avLst/>
            <a:gdLst/>
            <a:ahLst/>
            <a:rect l="l" t="t" r="r" b="b"/>
            <a:pathLst>
              <a:path w="1011244" h="2994350">
                <a:moveTo>
                  <a:pt x="1011244" y="0"/>
                </a:moveTo>
                <a:lnTo>
                  <a:pt x="216140" y="2994350"/>
                </a:lnTo>
                <a:lnTo>
                  <a:pt x="0" y="2936957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011244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0" name="Rounded Rectangle 14"/>
          <p:cNvSpPr/>
          <p:nvPr/>
        </p:nvSpPr>
        <p:spPr>
          <a:xfrm rot="20707200">
            <a:off x="7587720" y="-321840"/>
            <a:ext cx="1976760" cy="4073400"/>
          </a:xfrm>
          <a:custGeom>
            <a:avLst/>
            <a:gdLst/>
            <a:ahLst/>
            <a:rect l="l" t="t" r="r" b="b"/>
            <a:pathLst>
              <a:path w="1976541" h="4072806">
                <a:moveTo>
                  <a:pt x="0" y="0"/>
                </a:moveTo>
                <a:lnTo>
                  <a:pt x="1976541" y="524841"/>
                </a:lnTo>
                <a:lnTo>
                  <a:pt x="1034432" y="4072806"/>
                </a:lnTo>
                <a:lnTo>
                  <a:pt x="82090" y="4072806"/>
                </a:lnTo>
                <a:cubicBezTo>
                  <a:pt x="36753" y="4072806"/>
                  <a:pt x="0" y="4036053"/>
                  <a:pt x="0" y="3990716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1"/>
          </p:nvPr>
        </p:nvSpPr>
        <p:spPr>
          <a:xfrm rot="20700000">
            <a:off x="6995880" y="623844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2"/>
          </p:nvPr>
        </p:nvSpPr>
        <p:spPr>
          <a:xfrm rot="20700000">
            <a:off x="5320800" y="6094440"/>
            <a:ext cx="312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3"/>
          </p:nvPr>
        </p:nvSpPr>
        <p:spPr>
          <a:xfrm rot="20700000">
            <a:off x="8182080" y="3246480"/>
            <a:ext cx="90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ADB5-2442-4072-914D-7561719AD833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Rounded Rectangle 11"/>
          <p:cNvSpPr/>
          <p:nvPr/>
        </p:nvSpPr>
        <p:spPr>
          <a:xfrm rot="20707200">
            <a:off x="-882720" y="-625320"/>
            <a:ext cx="7440840" cy="7346880"/>
          </a:xfrm>
          <a:custGeom>
            <a:avLst/>
            <a:gdLst/>
            <a:ahLst/>
            <a:rect l="l" t="t" r="r" b="b"/>
            <a:pathLst>
              <a:path w="7440156" h="7347127">
                <a:moveTo>
                  <a:pt x="1760047" y="0"/>
                </a:moveTo>
                <a:lnTo>
                  <a:pt x="7440156" y="1508269"/>
                </a:lnTo>
                <a:lnTo>
                  <a:pt x="7440156" y="7265037"/>
                </a:lnTo>
                <a:cubicBezTo>
                  <a:pt x="7440156" y="7310374"/>
                  <a:pt x="7403403" y="7347127"/>
                  <a:pt x="7358066" y="7347127"/>
                </a:cubicBezTo>
                <a:lnTo>
                  <a:pt x="2707078" y="7347127"/>
                </a:lnTo>
                <a:lnTo>
                  <a:pt x="0" y="6628304"/>
                </a:lnTo>
                <a:lnTo>
                  <a:pt x="1760047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4" name="Rounded Rectangle 12"/>
          <p:cNvSpPr/>
          <p:nvPr/>
        </p:nvSpPr>
        <p:spPr>
          <a:xfrm rot="20707200">
            <a:off x="3227400" y="6273360"/>
            <a:ext cx="4395600" cy="1168560"/>
          </a:xfrm>
          <a:custGeom>
            <a:avLst/>
            <a:gdLst/>
            <a:ahLst/>
            <a:rect l="l" t="t" r="r" b="b"/>
            <a:pathLst>
              <a:path w="4396677" h="1167472">
                <a:moveTo>
                  <a:pt x="4346539" y="6451"/>
                </a:moveTo>
                <a:cubicBezTo>
                  <a:pt x="4376003" y="18913"/>
                  <a:pt x="4396677" y="48087"/>
                  <a:pt x="4396677" y="82090"/>
                </a:cubicBezTo>
                <a:lnTo>
                  <a:pt x="4396677" y="1167472"/>
                </a:lnTo>
                <a:lnTo>
                  <a:pt x="0" y="0"/>
                </a:lnTo>
                <a:lnTo>
                  <a:pt x="4314586" y="0"/>
                </a:lnTo>
                <a:cubicBezTo>
                  <a:pt x="4325920" y="0"/>
                  <a:pt x="4336718" y="2297"/>
                  <a:pt x="4346539" y="6451"/>
                </a:cubicBez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5" name="Rounded Rectangle 13"/>
          <p:cNvSpPr/>
          <p:nvPr/>
        </p:nvSpPr>
        <p:spPr>
          <a:xfrm rot="20707200">
            <a:off x="7659720" y="5459040"/>
            <a:ext cx="1709640" cy="1538280"/>
          </a:xfrm>
          <a:custGeom>
            <a:avLst/>
            <a:gdLst/>
            <a:ahLst/>
            <a:rect l="l" t="t" r="r" b="b"/>
            <a:pathLst>
              <a:path w="1710569" h="1538689">
                <a:moveTo>
                  <a:pt x="1710569" y="1"/>
                </a:moveTo>
                <a:lnTo>
                  <a:pt x="1301993" y="1538689"/>
                </a:lnTo>
                <a:lnTo>
                  <a:pt x="0" y="1192965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10569" y="1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6" name="Rounded Rectangle 14"/>
          <p:cNvSpPr/>
          <p:nvPr/>
        </p:nvSpPr>
        <p:spPr>
          <a:xfrm rot="20707200">
            <a:off x="6665400" y="-490320"/>
            <a:ext cx="3067200" cy="5811840"/>
          </a:xfrm>
          <a:custGeom>
            <a:avLst/>
            <a:gdLst/>
            <a:ahLst/>
            <a:rect l="l" t="t" r="r" b="b"/>
            <a:pathLst>
              <a:path w="3065776" h="5811871">
                <a:moveTo>
                  <a:pt x="0" y="0"/>
                </a:moveTo>
                <a:lnTo>
                  <a:pt x="3065776" y="814071"/>
                </a:lnTo>
                <a:lnTo>
                  <a:pt x="1738684" y="5811871"/>
                </a:lnTo>
                <a:lnTo>
                  <a:pt x="82090" y="5811871"/>
                </a:lnTo>
                <a:cubicBezTo>
                  <a:pt x="36753" y="5811871"/>
                  <a:pt x="0" y="5775118"/>
                  <a:pt x="0" y="5729781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4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5"/>
          </p:nvPr>
        </p:nvSpPr>
        <p:spPr>
          <a:xfrm rot="20700000">
            <a:off x="4997160" y="6187680"/>
            <a:ext cx="2381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6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7FE8-5EFC-4E0F-A786-E3B3C69587CB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ounded Rectangle 9"/>
          <p:cNvSpPr/>
          <p:nvPr/>
        </p:nvSpPr>
        <p:spPr>
          <a:xfrm rot="20707200">
            <a:off x="-617400" y="-651960"/>
            <a:ext cx="6664320" cy="3943080"/>
          </a:xfrm>
          <a:custGeom>
            <a:avLst/>
            <a:gdLst/>
            <a:ahLst/>
            <a:rect l="l" t="t" r="r" b="b"/>
            <a:pathLst>
              <a:path w="6664606" h="3942692">
                <a:moveTo>
                  <a:pt x="1046923" y="0"/>
                </a:moveTo>
                <a:lnTo>
                  <a:pt x="6664606" y="1491692"/>
                </a:lnTo>
                <a:lnTo>
                  <a:pt x="6664606" y="3860602"/>
                </a:lnTo>
                <a:cubicBezTo>
                  <a:pt x="6664606" y="3905939"/>
                  <a:pt x="6627853" y="3942692"/>
                  <a:pt x="6582516" y="3942692"/>
                </a:cubicBezTo>
                <a:lnTo>
                  <a:pt x="0" y="3942692"/>
                </a:lnTo>
                <a:lnTo>
                  <a:pt x="1046923" y="0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" name="Rounded Rectangle 11"/>
          <p:cNvSpPr/>
          <p:nvPr/>
        </p:nvSpPr>
        <p:spPr>
          <a:xfrm rot="20707200">
            <a:off x="6167160" y="-441360"/>
            <a:ext cx="3127320" cy="2425680"/>
          </a:xfrm>
          <a:custGeom>
            <a:avLst/>
            <a:gdLst/>
            <a:ahLst/>
            <a:rect l="l" t="t" r="r" b="b"/>
            <a:pathLst>
              <a:path w="3126510" h="2426476">
                <a:moveTo>
                  <a:pt x="0" y="0"/>
                </a:moveTo>
                <a:lnTo>
                  <a:pt x="3126510" y="830198"/>
                </a:lnTo>
                <a:lnTo>
                  <a:pt x="2702642" y="2426476"/>
                </a:lnTo>
                <a:lnTo>
                  <a:pt x="82091" y="2426476"/>
                </a:lnTo>
                <a:cubicBezTo>
                  <a:pt x="36754" y="2426475"/>
                  <a:pt x="1" y="2389722"/>
                  <a:pt x="1" y="2344385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" name="Rounded Rectangle 10"/>
          <p:cNvSpPr/>
          <p:nvPr/>
        </p:nvSpPr>
        <p:spPr>
          <a:xfrm rot="20707200">
            <a:off x="7143480" y="2001960"/>
            <a:ext cx="2679480" cy="4944960"/>
          </a:xfrm>
          <a:custGeom>
            <a:avLst/>
            <a:gdLst/>
            <a:ahLst/>
            <a:rect l="l" t="t" r="r" b="b"/>
            <a:pathLst>
              <a:path w="2679455" h="4946037">
                <a:moveTo>
                  <a:pt x="2679455" y="0"/>
                </a:moveTo>
                <a:lnTo>
                  <a:pt x="1366108" y="4946037"/>
                </a:lnTo>
                <a:lnTo>
                  <a:pt x="0" y="4583288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2679455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" name="Rounded Rectangle 8"/>
          <p:cNvSpPr/>
          <p:nvPr/>
        </p:nvSpPr>
        <p:spPr>
          <a:xfrm rot="20707200">
            <a:off x="-206280" y="3322800"/>
            <a:ext cx="7378560" cy="4557600"/>
          </a:xfrm>
          <a:custGeom>
            <a:avLst/>
            <a:gdLst/>
            <a:ahLst/>
            <a:rect l="l" t="t" r="r" b="b"/>
            <a:pathLst>
              <a:path w="7378073" h="4557796">
                <a:moveTo>
                  <a:pt x="7327936" y="6451"/>
                </a:moveTo>
                <a:cubicBezTo>
                  <a:pt x="7357400" y="18913"/>
                  <a:pt x="7378073" y="48087"/>
                  <a:pt x="7378073" y="82090"/>
                </a:cubicBezTo>
                <a:lnTo>
                  <a:pt x="7378073" y="4557796"/>
                </a:lnTo>
                <a:lnTo>
                  <a:pt x="0" y="2598658"/>
                </a:lnTo>
                <a:lnTo>
                  <a:pt x="690034" y="0"/>
                </a:lnTo>
                <a:lnTo>
                  <a:pt x="7295983" y="0"/>
                </a:lnTo>
                <a:cubicBezTo>
                  <a:pt x="7307317" y="0"/>
                  <a:pt x="7318115" y="2297"/>
                  <a:pt x="7327936" y="6451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20700000">
            <a:off x="6741720" y="231264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 rot="20700000">
            <a:off x="6551280" y="1528560"/>
            <a:ext cx="2465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 rot="20700000">
            <a:off x="6451200" y="1162080"/>
            <a:ext cx="2133720" cy="42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9D4A-17BD-458B-8D40-6945FFC758E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ounded Rectangle 8"/>
          <p:cNvSpPr/>
          <p:nvPr/>
        </p:nvSpPr>
        <p:spPr>
          <a:xfrm rot="907200">
            <a:off x="-865080" y="850680"/>
            <a:ext cx="3614760" cy="6151320"/>
          </a:xfrm>
          <a:custGeom>
            <a:avLst/>
            <a:gdLst/>
            <a:ahLst/>
            <a:rect l="l" t="t" r="r" b="b"/>
            <a:pathLst>
              <a:path w="3615441" h="6151724">
                <a:moveTo>
                  <a:pt x="0" y="0"/>
                </a:moveTo>
                <a:lnTo>
                  <a:pt x="3533351" y="0"/>
                </a:lnTo>
                <a:cubicBezTo>
                  <a:pt x="3578688" y="0"/>
                  <a:pt x="3615441" y="36753"/>
                  <a:pt x="3615441" y="82090"/>
                </a:cubicBezTo>
                <a:lnTo>
                  <a:pt x="3615441" y="5623909"/>
                </a:lnTo>
                <a:lnTo>
                  <a:pt x="1663219" y="6151724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0" name="Rounded Rectangle 12"/>
          <p:cNvSpPr/>
          <p:nvPr/>
        </p:nvSpPr>
        <p:spPr>
          <a:xfrm rot="907200">
            <a:off x="17280" y="-511200"/>
            <a:ext cx="3735360" cy="1387440"/>
          </a:xfrm>
          <a:custGeom>
            <a:avLst/>
            <a:gdLst/>
            <a:ahLst/>
            <a:rect l="l" t="t" r="r" b="b"/>
            <a:pathLst>
              <a:path w="3735394" h="1387781">
                <a:moveTo>
                  <a:pt x="0" y="1009924"/>
                </a:moveTo>
                <a:lnTo>
                  <a:pt x="3735394" y="0"/>
                </a:lnTo>
                <a:lnTo>
                  <a:pt x="3735394" y="1305691"/>
                </a:lnTo>
                <a:cubicBezTo>
                  <a:pt x="3735394" y="1351028"/>
                  <a:pt x="3698641" y="1387781"/>
                  <a:pt x="3653304" y="1387781"/>
                </a:cubicBezTo>
                <a:lnTo>
                  <a:pt x="102160" y="1387781"/>
                </a:lnTo>
                <a:lnTo>
                  <a:pt x="0" y="1009924"/>
                </a:ln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1" name="Rounded Rectangle 13"/>
          <p:cNvSpPr/>
          <p:nvPr/>
        </p:nvSpPr>
        <p:spPr>
          <a:xfrm rot="907200">
            <a:off x="2146320" y="6589440"/>
            <a:ext cx="1981080" cy="536400"/>
          </a:xfrm>
          <a:custGeom>
            <a:avLst/>
            <a:gdLst/>
            <a:ahLst/>
            <a:rect l="l" t="t" r="r" b="b"/>
            <a:pathLst>
              <a:path w="1981025" h="535602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81025" y="0"/>
                </a:lnTo>
                <a:lnTo>
                  <a:pt x="0" y="535602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2" name="Rounded Rectangle 14"/>
          <p:cNvSpPr/>
          <p:nvPr/>
        </p:nvSpPr>
        <p:spPr>
          <a:xfrm rot="907200">
            <a:off x="3184200" y="-553680"/>
            <a:ext cx="6783480" cy="7826400"/>
          </a:xfrm>
          <a:custGeom>
            <a:avLst/>
            <a:gdLst/>
            <a:ahLst/>
            <a:rect l="l" t="t" r="r" b="b"/>
            <a:pathLst>
              <a:path w="6782931" h="7826540">
                <a:moveTo>
                  <a:pt x="0" y="1349945"/>
                </a:moveTo>
                <a:lnTo>
                  <a:pt x="4993024" y="0"/>
                </a:lnTo>
                <a:lnTo>
                  <a:pt x="6782931" y="6620302"/>
                </a:lnTo>
                <a:lnTo>
                  <a:pt x="2321435" y="7826540"/>
                </a:lnTo>
                <a:lnTo>
                  <a:pt x="82090" y="7826540"/>
                </a:lnTo>
                <a:cubicBezTo>
                  <a:pt x="36753" y="7826540"/>
                  <a:pt x="0" y="7789787"/>
                  <a:pt x="0" y="7744450"/>
                </a:cubicBezTo>
                <a:lnTo>
                  <a:pt x="0" y="1349945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 rot="900000">
            <a:off x="1690560" y="607680"/>
            <a:ext cx="1789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 rot="900000">
            <a:off x="3102840" y="6176520"/>
            <a:ext cx="239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 rot="900000">
            <a:off x="1265400" y="299160"/>
            <a:ext cx="2287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6B4C-A976-43AF-A3B4-BF5CFDA5B2D2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ounded Rectangle 16"/>
          <p:cNvSpPr/>
          <p:nvPr/>
        </p:nvSpPr>
        <p:spPr>
          <a:xfrm rot="900000">
            <a:off x="-56880" y="-1017720"/>
            <a:ext cx="7412040" cy="3438720"/>
          </a:xfrm>
          <a:custGeom>
            <a:avLst/>
            <a:gdLst/>
            <a:ahLst/>
            <a:rect l="l" t="t" r="r" b="b"/>
            <a:pathLst>
              <a:path w="7411427" h="3438177">
                <a:moveTo>
                  <a:pt x="0" y="1985886"/>
                </a:moveTo>
                <a:lnTo>
                  <a:pt x="7411427" y="0"/>
                </a:lnTo>
                <a:lnTo>
                  <a:pt x="7411427" y="3356087"/>
                </a:lnTo>
                <a:cubicBezTo>
                  <a:pt x="7411427" y="3401424"/>
                  <a:pt x="7374674" y="3438177"/>
                  <a:pt x="7329337" y="3438177"/>
                </a:cubicBezTo>
                <a:lnTo>
                  <a:pt x="389140" y="3438177"/>
                </a:lnTo>
                <a:lnTo>
                  <a:pt x="0" y="1985886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6" name="Rounded Rectangle 17"/>
          <p:cNvSpPr/>
          <p:nvPr/>
        </p:nvSpPr>
        <p:spPr>
          <a:xfrm rot="900000">
            <a:off x="-776160" y="2417760"/>
            <a:ext cx="6997680" cy="5079960"/>
          </a:xfrm>
          <a:custGeom>
            <a:avLst/>
            <a:gdLst/>
            <a:ahLst/>
            <a:rect l="l" t="t" r="r" b="b"/>
            <a:pathLst>
              <a:path w="6998365" h="5080081">
                <a:moveTo>
                  <a:pt x="0" y="0"/>
                </a:moveTo>
                <a:lnTo>
                  <a:pt x="6916275" y="0"/>
                </a:lnTo>
                <a:cubicBezTo>
                  <a:pt x="6961612" y="0"/>
                  <a:pt x="6998365" y="36753"/>
                  <a:pt x="6998365" y="82090"/>
                </a:cubicBezTo>
                <a:lnTo>
                  <a:pt x="6998365" y="3569608"/>
                </a:lnTo>
                <a:lnTo>
                  <a:pt x="1361203" y="5080081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7" name="Rounded Rectangle 18"/>
          <p:cNvSpPr/>
          <p:nvPr/>
        </p:nvSpPr>
        <p:spPr>
          <a:xfrm rot="900000">
            <a:off x="6337080" y="3774600"/>
            <a:ext cx="3103560" cy="3544920"/>
          </a:xfrm>
          <a:custGeom>
            <a:avLst/>
            <a:gdLst/>
            <a:ahLst/>
            <a:rect l="l" t="t" r="r" b="b"/>
            <a:pathLst>
              <a:path w="3102275" h="3544033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2375388" y="0"/>
                </a:lnTo>
                <a:lnTo>
                  <a:pt x="3102275" y="2712781"/>
                </a:lnTo>
                <a:lnTo>
                  <a:pt x="0" y="3544033"/>
                </a:lnTo>
                <a:lnTo>
                  <a:pt x="0" y="82090"/>
                </a:lnTo>
                <a:cubicBezTo>
                  <a:pt x="0" y="48087"/>
                  <a:pt x="20673" y="18913"/>
                  <a:pt x="50137" y="6451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8" name="Rounded Rectangle 19"/>
          <p:cNvSpPr/>
          <p:nvPr/>
        </p:nvSpPr>
        <p:spPr>
          <a:xfrm rot="900000">
            <a:off x="7327800" y="-104400"/>
            <a:ext cx="2351160" cy="3821040"/>
          </a:xfrm>
          <a:custGeom>
            <a:avLst/>
            <a:gdLst/>
            <a:ahLst/>
            <a:rect l="l" t="t" r="r" b="b"/>
            <a:pathLst>
              <a:path w="2350627" h="3820866">
                <a:moveTo>
                  <a:pt x="1" y="355523"/>
                </a:moveTo>
                <a:lnTo>
                  <a:pt x="1326829" y="0"/>
                </a:lnTo>
                <a:lnTo>
                  <a:pt x="2350627" y="3820866"/>
                </a:lnTo>
                <a:lnTo>
                  <a:pt x="82091" y="3820866"/>
                </a:lnTo>
                <a:cubicBezTo>
                  <a:pt x="36754" y="3820866"/>
                  <a:pt x="1" y="3784113"/>
                  <a:pt x="0" y="3738776"/>
                </a:cubicBezTo>
                <a:lnTo>
                  <a:pt x="1" y="355523"/>
                </a:ln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 rot="900000">
            <a:off x="6878160" y="3760560"/>
            <a:ext cx="152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 rot="900000">
            <a:off x="7056000" y="3169800"/>
            <a:ext cx="192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 rot="900000">
            <a:off x="7176600" y="2660760"/>
            <a:ext cx="68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797D-C844-4CE8-B932-F0F5A5685E2F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Rounded Rectangle 16"/>
          <p:cNvSpPr/>
          <p:nvPr/>
        </p:nvSpPr>
        <p:spPr>
          <a:xfrm rot="20707200">
            <a:off x="-882720" y="-625320"/>
            <a:ext cx="7439040" cy="7343640"/>
          </a:xfrm>
          <a:custGeom>
            <a:avLst/>
            <a:gdLst/>
            <a:ahLst/>
            <a:rect l="l" t="t" r="r" b="b"/>
            <a:pathLst>
              <a:path w="7439907" h="7344599">
                <a:moveTo>
                  <a:pt x="1760047" y="0"/>
                </a:moveTo>
                <a:lnTo>
                  <a:pt x="7439906" y="1508202"/>
                </a:lnTo>
                <a:lnTo>
                  <a:pt x="7439907" y="7262509"/>
                </a:lnTo>
                <a:cubicBezTo>
                  <a:pt x="7439906" y="7307846"/>
                  <a:pt x="7403153" y="7344599"/>
                  <a:pt x="7357816" y="7344599"/>
                </a:cubicBezTo>
                <a:lnTo>
                  <a:pt x="2697558" y="7344599"/>
                </a:lnTo>
                <a:lnTo>
                  <a:pt x="0" y="6628303"/>
                </a:lnTo>
                <a:lnTo>
                  <a:pt x="1760047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2" name="Rounded Rectangle 17"/>
          <p:cNvSpPr/>
          <p:nvPr/>
        </p:nvSpPr>
        <p:spPr>
          <a:xfrm rot="20707200">
            <a:off x="3236760" y="6275160"/>
            <a:ext cx="4388040" cy="1164960"/>
          </a:xfrm>
          <a:custGeom>
            <a:avLst/>
            <a:gdLst/>
            <a:ahLst/>
            <a:rect l="l" t="t" r="r" b="b"/>
            <a:pathLst>
              <a:path w="4387395" h="1165008">
                <a:moveTo>
                  <a:pt x="4337258" y="6451"/>
                </a:moveTo>
                <a:cubicBezTo>
                  <a:pt x="4366722" y="18913"/>
                  <a:pt x="4387395" y="48087"/>
                  <a:pt x="4387395" y="82090"/>
                </a:cubicBezTo>
                <a:lnTo>
                  <a:pt x="4387395" y="1165008"/>
                </a:lnTo>
                <a:lnTo>
                  <a:pt x="0" y="0"/>
                </a:lnTo>
                <a:lnTo>
                  <a:pt x="4305305" y="0"/>
                </a:lnTo>
                <a:cubicBezTo>
                  <a:pt x="4316639" y="0"/>
                  <a:pt x="4327437" y="2297"/>
                  <a:pt x="4337258" y="6451"/>
                </a:cubicBez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3" name="Rounded Rectangle 18"/>
          <p:cNvSpPr/>
          <p:nvPr/>
        </p:nvSpPr>
        <p:spPr>
          <a:xfrm rot="20707200">
            <a:off x="7660800" y="5462640"/>
            <a:ext cx="1708200" cy="1535040"/>
          </a:xfrm>
          <a:custGeom>
            <a:avLst/>
            <a:gdLst/>
            <a:ahLst/>
            <a:rect l="l" t="t" r="r" b="b"/>
            <a:pathLst>
              <a:path w="1709024" h="1536003">
                <a:moveTo>
                  <a:pt x="1709024" y="0"/>
                </a:moveTo>
                <a:lnTo>
                  <a:pt x="1301161" y="1536003"/>
                </a:lnTo>
                <a:lnTo>
                  <a:pt x="0" y="119050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4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4" name="Rounded Rectangle 19"/>
          <p:cNvSpPr/>
          <p:nvPr/>
        </p:nvSpPr>
        <p:spPr>
          <a:xfrm rot="20707200">
            <a:off x="6667560" y="-490320"/>
            <a:ext cx="3065400" cy="5811840"/>
          </a:xfrm>
          <a:custGeom>
            <a:avLst/>
            <a:gdLst/>
            <a:ahLst/>
            <a:rect l="l" t="t" r="r" b="b"/>
            <a:pathLst>
              <a:path w="3064333" h="5811872">
                <a:moveTo>
                  <a:pt x="0" y="0"/>
                </a:moveTo>
                <a:lnTo>
                  <a:pt x="3064333" y="813688"/>
                </a:lnTo>
                <a:lnTo>
                  <a:pt x="1737140" y="5811872"/>
                </a:lnTo>
                <a:lnTo>
                  <a:pt x="82090" y="5811872"/>
                </a:lnTo>
                <a:cubicBezTo>
                  <a:pt x="36753" y="5811872"/>
                  <a:pt x="0" y="5775119"/>
                  <a:pt x="0" y="5729782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 rot="20700000">
            <a:off x="7756560" y="5887800"/>
            <a:ext cx="124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 rot="20700000">
            <a:off x="4053960" y="5494320"/>
            <a:ext cx="312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 rot="20700000">
            <a:off x="7689960" y="5643360"/>
            <a:ext cx="124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6AB0-19F3-4B85-A4AB-18E0A409D385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Rounded Rectangle 52"/>
          <p:cNvSpPr/>
          <p:nvPr/>
        </p:nvSpPr>
        <p:spPr>
          <a:xfrm rot="20707200">
            <a:off x="-882720" y="-625320"/>
            <a:ext cx="7439040" cy="7343640"/>
          </a:xfrm>
          <a:custGeom>
            <a:avLst/>
            <a:gdLst/>
            <a:ahLst/>
            <a:rect l="l" t="t" r="r" b="b"/>
            <a:pathLst>
              <a:path w="7439907" h="7344599">
                <a:moveTo>
                  <a:pt x="1760047" y="0"/>
                </a:moveTo>
                <a:lnTo>
                  <a:pt x="7439906" y="1508202"/>
                </a:lnTo>
                <a:lnTo>
                  <a:pt x="7439907" y="7262509"/>
                </a:lnTo>
                <a:cubicBezTo>
                  <a:pt x="7439906" y="7307846"/>
                  <a:pt x="7403153" y="7344599"/>
                  <a:pt x="7357816" y="7344599"/>
                </a:cubicBezTo>
                <a:lnTo>
                  <a:pt x="2697558" y="7344599"/>
                </a:lnTo>
                <a:lnTo>
                  <a:pt x="0" y="6628303"/>
                </a:lnTo>
                <a:lnTo>
                  <a:pt x="1760047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8" name="Rounded Rectangle 53"/>
          <p:cNvSpPr/>
          <p:nvPr/>
        </p:nvSpPr>
        <p:spPr>
          <a:xfrm rot="20707200">
            <a:off x="3236760" y="6275160"/>
            <a:ext cx="4388040" cy="1164960"/>
          </a:xfrm>
          <a:custGeom>
            <a:avLst/>
            <a:gdLst/>
            <a:ahLst/>
            <a:rect l="l" t="t" r="r" b="b"/>
            <a:pathLst>
              <a:path w="4387395" h="1165008">
                <a:moveTo>
                  <a:pt x="4337258" y="6451"/>
                </a:moveTo>
                <a:cubicBezTo>
                  <a:pt x="4366722" y="18913"/>
                  <a:pt x="4387395" y="48087"/>
                  <a:pt x="4387395" y="82090"/>
                </a:cubicBezTo>
                <a:lnTo>
                  <a:pt x="4387395" y="1165008"/>
                </a:lnTo>
                <a:lnTo>
                  <a:pt x="0" y="0"/>
                </a:lnTo>
                <a:lnTo>
                  <a:pt x="4305305" y="0"/>
                </a:lnTo>
                <a:cubicBezTo>
                  <a:pt x="4316639" y="0"/>
                  <a:pt x="4327437" y="2297"/>
                  <a:pt x="4337258" y="6451"/>
                </a:cubicBez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9" name="Rounded Rectangle 54"/>
          <p:cNvSpPr/>
          <p:nvPr/>
        </p:nvSpPr>
        <p:spPr>
          <a:xfrm rot="20707200">
            <a:off x="7660800" y="5462640"/>
            <a:ext cx="1708200" cy="1535040"/>
          </a:xfrm>
          <a:custGeom>
            <a:avLst/>
            <a:gdLst/>
            <a:ahLst/>
            <a:rect l="l" t="t" r="r" b="b"/>
            <a:pathLst>
              <a:path w="1709024" h="1536003">
                <a:moveTo>
                  <a:pt x="1709024" y="0"/>
                </a:moveTo>
                <a:lnTo>
                  <a:pt x="1301161" y="1536003"/>
                </a:lnTo>
                <a:lnTo>
                  <a:pt x="0" y="119050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4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0" name="Rounded Rectangle 55"/>
          <p:cNvSpPr/>
          <p:nvPr/>
        </p:nvSpPr>
        <p:spPr>
          <a:xfrm rot="20707200">
            <a:off x="6667560" y="-490320"/>
            <a:ext cx="3065400" cy="5811840"/>
          </a:xfrm>
          <a:custGeom>
            <a:avLst/>
            <a:gdLst/>
            <a:ahLst/>
            <a:rect l="l" t="t" r="r" b="b"/>
            <a:pathLst>
              <a:path w="3064333" h="5811872">
                <a:moveTo>
                  <a:pt x="0" y="0"/>
                </a:moveTo>
                <a:lnTo>
                  <a:pt x="3064333" y="813688"/>
                </a:lnTo>
                <a:lnTo>
                  <a:pt x="1737140" y="5811872"/>
                </a:lnTo>
                <a:lnTo>
                  <a:pt x="82090" y="5811872"/>
                </a:lnTo>
                <a:cubicBezTo>
                  <a:pt x="36753" y="5811872"/>
                  <a:pt x="0" y="5775119"/>
                  <a:pt x="0" y="5729782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 rot="20700000">
            <a:off x="4051080" y="5495040"/>
            <a:ext cx="31240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663A-7CA6-4EC4-AAAD-903563EB16AD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Rounded Rectangle 20"/>
          <p:cNvSpPr/>
          <p:nvPr/>
        </p:nvSpPr>
        <p:spPr>
          <a:xfrm rot="907200">
            <a:off x="-865080" y="850680"/>
            <a:ext cx="3614760" cy="6151320"/>
          </a:xfrm>
          <a:custGeom>
            <a:avLst/>
            <a:gdLst/>
            <a:ahLst/>
            <a:rect l="l" t="t" r="r" b="b"/>
            <a:pathLst>
              <a:path w="3615441" h="6151724">
                <a:moveTo>
                  <a:pt x="0" y="0"/>
                </a:moveTo>
                <a:lnTo>
                  <a:pt x="3533351" y="0"/>
                </a:lnTo>
                <a:cubicBezTo>
                  <a:pt x="3578688" y="0"/>
                  <a:pt x="3615441" y="36753"/>
                  <a:pt x="3615441" y="82090"/>
                </a:cubicBezTo>
                <a:lnTo>
                  <a:pt x="3615441" y="5623909"/>
                </a:lnTo>
                <a:lnTo>
                  <a:pt x="1663219" y="6151724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4" name="Rounded Rectangle 21"/>
          <p:cNvSpPr/>
          <p:nvPr/>
        </p:nvSpPr>
        <p:spPr>
          <a:xfrm rot="907200">
            <a:off x="17280" y="-511200"/>
            <a:ext cx="3735360" cy="1387440"/>
          </a:xfrm>
          <a:custGeom>
            <a:avLst/>
            <a:gdLst/>
            <a:ahLst/>
            <a:rect l="l" t="t" r="r" b="b"/>
            <a:pathLst>
              <a:path w="3735394" h="1387781">
                <a:moveTo>
                  <a:pt x="0" y="1009924"/>
                </a:moveTo>
                <a:lnTo>
                  <a:pt x="3735394" y="0"/>
                </a:lnTo>
                <a:lnTo>
                  <a:pt x="3735394" y="1305691"/>
                </a:lnTo>
                <a:cubicBezTo>
                  <a:pt x="3735394" y="1351028"/>
                  <a:pt x="3698641" y="1387781"/>
                  <a:pt x="3653304" y="1387781"/>
                </a:cubicBezTo>
                <a:lnTo>
                  <a:pt x="102160" y="1387781"/>
                </a:lnTo>
                <a:lnTo>
                  <a:pt x="0" y="1009924"/>
                </a:ln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5" name="Rounded Rectangle 22"/>
          <p:cNvSpPr/>
          <p:nvPr/>
        </p:nvSpPr>
        <p:spPr>
          <a:xfrm rot="907200">
            <a:off x="2146320" y="6589440"/>
            <a:ext cx="1981080" cy="536400"/>
          </a:xfrm>
          <a:custGeom>
            <a:avLst/>
            <a:gdLst/>
            <a:ahLst/>
            <a:rect l="l" t="t" r="r" b="b"/>
            <a:pathLst>
              <a:path w="1981025" h="535602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81025" y="0"/>
                </a:lnTo>
                <a:lnTo>
                  <a:pt x="0" y="535602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6" name="Rounded Rectangle 23"/>
          <p:cNvSpPr/>
          <p:nvPr/>
        </p:nvSpPr>
        <p:spPr>
          <a:xfrm rot="907200">
            <a:off x="3184200" y="-553680"/>
            <a:ext cx="6783480" cy="7826400"/>
          </a:xfrm>
          <a:custGeom>
            <a:avLst/>
            <a:gdLst/>
            <a:ahLst/>
            <a:rect l="l" t="t" r="r" b="b"/>
            <a:pathLst>
              <a:path w="6782931" h="7826540">
                <a:moveTo>
                  <a:pt x="0" y="1349945"/>
                </a:moveTo>
                <a:lnTo>
                  <a:pt x="4993024" y="0"/>
                </a:lnTo>
                <a:lnTo>
                  <a:pt x="6782931" y="6620302"/>
                </a:lnTo>
                <a:lnTo>
                  <a:pt x="2321435" y="7826540"/>
                </a:lnTo>
                <a:lnTo>
                  <a:pt x="82090" y="7826540"/>
                </a:lnTo>
                <a:cubicBezTo>
                  <a:pt x="36753" y="7826540"/>
                  <a:pt x="0" y="7789787"/>
                  <a:pt x="0" y="7744450"/>
                </a:cubicBezTo>
                <a:lnTo>
                  <a:pt x="0" y="1349945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 rot="900000">
            <a:off x="1692000" y="612360"/>
            <a:ext cx="179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 rot="900000">
            <a:off x="2493720" y="6100560"/>
            <a:ext cx="305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 rot="900000">
            <a:off x="1261800" y="301680"/>
            <a:ext cx="228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4CCD-1752-44FE-8740-6129B84E8FF2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Rounded Rectangle 11"/>
          <p:cNvSpPr/>
          <p:nvPr/>
        </p:nvSpPr>
        <p:spPr>
          <a:xfrm rot="900000">
            <a:off x="-371520" y="-1217160"/>
            <a:ext cx="8577360" cy="6343560"/>
          </a:xfrm>
          <a:custGeom>
            <a:avLst/>
            <a:gdLst/>
            <a:ahLst/>
            <a:rect l="l" t="t" r="r" b="b"/>
            <a:pathLst>
              <a:path w="8577953" h="6344114">
                <a:moveTo>
                  <a:pt x="0" y="2298455"/>
                </a:moveTo>
                <a:lnTo>
                  <a:pt x="8577953" y="0"/>
                </a:lnTo>
                <a:lnTo>
                  <a:pt x="8577953" y="6262024"/>
                </a:lnTo>
                <a:cubicBezTo>
                  <a:pt x="8577953" y="6307361"/>
                  <a:pt x="8541200" y="6344113"/>
                  <a:pt x="8495863" y="6344113"/>
                </a:cubicBezTo>
                <a:lnTo>
                  <a:pt x="1084031" y="6344114"/>
                </a:lnTo>
                <a:lnTo>
                  <a:pt x="0" y="2298455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0" name="Rounded Rectangle 12"/>
          <p:cNvSpPr/>
          <p:nvPr/>
        </p:nvSpPr>
        <p:spPr>
          <a:xfrm rot="900000">
            <a:off x="-449280" y="5208120"/>
            <a:ext cx="7470720" cy="2486160"/>
          </a:xfrm>
          <a:custGeom>
            <a:avLst/>
            <a:gdLst/>
            <a:ahLst/>
            <a:rect l="l" t="t" r="r" b="b"/>
            <a:pathLst>
              <a:path w="7470000" h="2486713">
                <a:moveTo>
                  <a:pt x="0" y="0"/>
                </a:moveTo>
                <a:lnTo>
                  <a:pt x="7387910" y="0"/>
                </a:lnTo>
                <a:cubicBezTo>
                  <a:pt x="7433247" y="0"/>
                  <a:pt x="7470000" y="36753"/>
                  <a:pt x="7470000" y="82090"/>
                </a:cubicBezTo>
                <a:lnTo>
                  <a:pt x="7470000" y="663670"/>
                </a:lnTo>
                <a:lnTo>
                  <a:pt x="666313" y="2486713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1" name="Rounded Rectangle 13"/>
          <p:cNvSpPr/>
          <p:nvPr/>
        </p:nvSpPr>
        <p:spPr>
          <a:xfrm rot="900000">
            <a:off x="7192800" y="6483240"/>
            <a:ext cx="1932120" cy="635040"/>
          </a:xfrm>
          <a:custGeom>
            <a:avLst/>
            <a:gdLst/>
            <a:ahLst/>
            <a:rect l="l" t="t" r="r" b="b"/>
            <a:pathLst>
              <a:path w="1932834" h="635630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01288" y="0"/>
                </a:lnTo>
                <a:lnTo>
                  <a:pt x="1932834" y="117729"/>
                </a:lnTo>
                <a:lnTo>
                  <a:pt x="0" y="635630"/>
                </a:lnTo>
                <a:lnTo>
                  <a:pt x="0" y="82090"/>
                </a:lnTo>
                <a:cubicBezTo>
                  <a:pt x="0" y="48087"/>
                  <a:pt x="20673" y="18913"/>
                  <a:pt x="50137" y="6451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2" name="Rounded Rectangle 14"/>
          <p:cNvSpPr/>
          <p:nvPr/>
        </p:nvSpPr>
        <p:spPr>
          <a:xfrm rot="900000">
            <a:off x="8126280" y="92160"/>
            <a:ext cx="1879560" cy="6414840"/>
          </a:xfrm>
          <a:custGeom>
            <a:avLst/>
            <a:gdLst/>
            <a:ahLst/>
            <a:rect l="l" t="t" r="r" b="b"/>
            <a:pathLst>
              <a:path w="1878991" h="6414233">
                <a:moveTo>
                  <a:pt x="0" y="42953"/>
                </a:moveTo>
                <a:lnTo>
                  <a:pt x="160303" y="0"/>
                </a:lnTo>
                <a:lnTo>
                  <a:pt x="1878991" y="6414233"/>
                </a:lnTo>
                <a:lnTo>
                  <a:pt x="82090" y="6414233"/>
                </a:lnTo>
                <a:cubicBezTo>
                  <a:pt x="36753" y="6414233"/>
                  <a:pt x="0" y="6377480"/>
                  <a:pt x="0" y="6332143"/>
                </a:cubicBezTo>
                <a:lnTo>
                  <a:pt x="0" y="42953"/>
                </a:ln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 rot="900000">
            <a:off x="7521120" y="5927400"/>
            <a:ext cx="152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 rot="900000">
            <a:off x="3892320" y="5987880"/>
            <a:ext cx="31240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 rot="900000">
            <a:off x="7598520" y="5570640"/>
            <a:ext cx="716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181C-B165-440A-A438-4847E2993680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Rounded Rectangle 12"/>
          <p:cNvSpPr/>
          <p:nvPr/>
        </p:nvSpPr>
        <p:spPr>
          <a:xfrm rot="20707200">
            <a:off x="-896400" y="-623880"/>
            <a:ext cx="7286400" cy="6040440"/>
          </a:xfrm>
          <a:custGeom>
            <a:avLst/>
            <a:gdLst/>
            <a:ahLst/>
            <a:rect l="l" t="t" r="r" b="b"/>
            <a:pathLst>
              <a:path w="7286946" h="6041338">
                <a:moveTo>
                  <a:pt x="1604186" y="0"/>
                </a:moveTo>
                <a:lnTo>
                  <a:pt x="7286946" y="1508972"/>
                </a:lnTo>
                <a:lnTo>
                  <a:pt x="7286946" y="5959247"/>
                </a:lnTo>
                <a:cubicBezTo>
                  <a:pt x="7286946" y="6004584"/>
                  <a:pt x="7250193" y="6041337"/>
                  <a:pt x="7204856" y="6041337"/>
                </a:cubicBezTo>
                <a:lnTo>
                  <a:pt x="0" y="6041338"/>
                </a:lnTo>
                <a:lnTo>
                  <a:pt x="1604186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6" name="Rounded Rectangle 13"/>
          <p:cNvSpPr/>
          <p:nvPr/>
        </p:nvSpPr>
        <p:spPr>
          <a:xfrm rot="20707200">
            <a:off x="64800" y="5378400"/>
            <a:ext cx="7442280" cy="2476440"/>
          </a:xfrm>
          <a:custGeom>
            <a:avLst/>
            <a:gdLst/>
            <a:ahLst/>
            <a:rect l="l" t="t" r="r" b="b"/>
            <a:pathLst>
              <a:path w="7443151" h="2476431">
                <a:moveTo>
                  <a:pt x="7393013" y="6452"/>
                </a:moveTo>
                <a:cubicBezTo>
                  <a:pt x="7422477" y="18914"/>
                  <a:pt x="7443150" y="48087"/>
                  <a:pt x="7443150" y="82090"/>
                </a:cubicBezTo>
                <a:lnTo>
                  <a:pt x="7443151" y="2476431"/>
                </a:lnTo>
                <a:lnTo>
                  <a:pt x="0" y="500014"/>
                </a:lnTo>
                <a:lnTo>
                  <a:pt x="132771" y="1"/>
                </a:lnTo>
                <a:lnTo>
                  <a:pt x="7361060" y="1"/>
                </a:lnTo>
                <a:cubicBezTo>
                  <a:pt x="7372394" y="0"/>
                  <a:pt x="7383192" y="2298"/>
                  <a:pt x="7393013" y="6452"/>
                </a:cubicBez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7" name="Rounded Rectangle 14"/>
          <p:cNvSpPr/>
          <p:nvPr/>
        </p:nvSpPr>
        <p:spPr>
          <a:xfrm rot="20707200">
            <a:off x="7661160" y="5459400"/>
            <a:ext cx="1708200" cy="1538280"/>
          </a:xfrm>
          <a:custGeom>
            <a:avLst/>
            <a:gdLst/>
            <a:ahLst/>
            <a:rect l="l" t="t" r="r" b="b"/>
            <a:pathLst>
              <a:path w="1709023" h="1538302">
                <a:moveTo>
                  <a:pt x="1709023" y="0"/>
                </a:moveTo>
                <a:lnTo>
                  <a:pt x="1300550" y="1538302"/>
                </a:lnTo>
                <a:lnTo>
                  <a:pt x="0" y="119296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3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8" name="Rounded Rectangle 15"/>
          <p:cNvSpPr/>
          <p:nvPr/>
        </p:nvSpPr>
        <p:spPr>
          <a:xfrm rot="20707200">
            <a:off x="6673320" y="-490320"/>
            <a:ext cx="3059280" cy="5810400"/>
          </a:xfrm>
          <a:custGeom>
            <a:avLst/>
            <a:gdLst/>
            <a:ahLst/>
            <a:rect l="l" t="t" r="r" b="b"/>
            <a:pathLst>
              <a:path w="3059119" h="5809409">
                <a:moveTo>
                  <a:pt x="0" y="0"/>
                </a:moveTo>
                <a:lnTo>
                  <a:pt x="3059119" y="812303"/>
                </a:lnTo>
                <a:lnTo>
                  <a:pt x="1732212" y="5809409"/>
                </a:lnTo>
                <a:lnTo>
                  <a:pt x="82090" y="5809409"/>
                </a:lnTo>
                <a:cubicBezTo>
                  <a:pt x="36753" y="5809409"/>
                  <a:pt x="0" y="5772656"/>
                  <a:pt x="0" y="5727319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 rot="20700000">
            <a:off x="4264200" y="6098760"/>
            <a:ext cx="3062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67FA-4F3C-40A1-A8C6-05C101C13A56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4"/>
          <p:cNvSpPr/>
          <p:nvPr/>
        </p:nvSpPr>
        <p:spPr>
          <a:xfrm>
            <a:off x="179280" y="260280"/>
            <a:ext cx="8777520" cy="2560680"/>
          </a:xfrm>
          <a:prstGeom prst="rect">
            <a:avLst/>
          </a:prstGeom>
          <a:solidFill>
            <a:srgbClr val="5069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  <a:p>
            <a:pPr marL="743040" indent="-285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Уральское управление Ростехнадзора 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743040" indent="-2858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Межрегиональный отдел металлургического надзора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743040" indent="-2858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743040" indent="-2858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обенности организации и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marL="743040" indent="-2858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уществления государственного контроля (надзора) на объектах металлургической и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marL="743040" indent="-2858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ксохимической промышленности в 2023 году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556" name="Picture 6" descr="C:\Users\v.noskov\Desktop\Задания\2019 год\Презентация АВ (В РАБОТЕ!)\Логотип РТН.png"/>
          <p:cNvPicPr/>
          <p:nvPr/>
        </p:nvPicPr>
        <p:blipFill>
          <a:blip r:embed="rId1"/>
          <a:stretch/>
        </p:blipFill>
        <p:spPr>
          <a:xfrm>
            <a:off x="324000" y="404640"/>
            <a:ext cx="1295280" cy="1519560"/>
          </a:xfrm>
          <a:prstGeom prst="rect">
            <a:avLst/>
          </a:prstGeom>
          <a:ln w="0">
            <a:noFill/>
          </a:ln>
        </p:spPr>
      </p:pic>
      <p:sp>
        <p:nvSpPr>
          <p:cNvPr id="557" name="Прямая соединительная линия 2"/>
          <p:cNvSpPr/>
          <p:nvPr/>
        </p:nvSpPr>
        <p:spPr>
          <a:xfrm>
            <a:off x="1835280" y="1460520"/>
            <a:ext cx="6408720" cy="0"/>
          </a:xfrm>
          <a:prstGeom prst="line">
            <a:avLst/>
          </a:prstGeom>
          <a:ln w="12600">
            <a:solidFill>
              <a:srgbClr val="559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558" name="Picture 7" descr="C:\Users\v.noskov\Desktop\foto.jpg"/>
          <p:cNvPicPr/>
          <p:nvPr/>
        </p:nvPicPr>
        <p:blipFill>
          <a:blip r:embed="rId2"/>
          <a:stretch/>
        </p:blipFill>
        <p:spPr>
          <a:xfrm>
            <a:off x="179280" y="2924280"/>
            <a:ext cx="5548320" cy="3700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Прямоугольник 6"/>
          <p:cNvSpPr/>
          <p:nvPr/>
        </p:nvSpPr>
        <p:spPr>
          <a:xfrm>
            <a:off x="3286800" y="477720"/>
            <a:ext cx="24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АО «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Завод Уралпрокат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92" name="Прямоугольник 11"/>
          <p:cNvSpPr/>
          <p:nvPr/>
        </p:nvSpPr>
        <p:spPr>
          <a:xfrm>
            <a:off x="108000" y="785880"/>
            <a:ext cx="8928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Старшим мастером Долгих Д.В. было дано задание Рублеву К.С. заменить сетку вибросита.</a:t>
            </a:r>
            <a:endParaRPr b="0" lang="en-US" sz="14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Рублевым К.С. были отсоединены удерживающие крышку и деки сита быстросъёмные кольца, демонтирована крышка корпуса. Внутри находились остатки сыпучей смеси разного гранулометрического состава материала, содержания и формы частиц.</a:t>
            </a:r>
            <a:endParaRPr b="0" lang="en-US" sz="14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С целью стряхнуть данные остатки смеси с деки было принято решение запустить двигатель вибросита, о том, что в разобранном состоянии нельзя запускать двигатель со слов Рублева К.С. он не знал. Заменив сетку на нижнем сите, Рублев К.С. вставил его в обечайку, лежащую на полу возле вибросита. При нажатии кнопки запуска вибросита в разобранном виде, двигатель запустился и при этом нижняя дека вибросита под вибрацией слетела с пружин и сместилась, вибровозбудитель вибросита начал колотить о корпус, через несколько секунд произошел огненный хлопок с нижней части корпуса вибросита, где установлен двигатель, после чего Рублеву К.С. огнем опалило лицо, руки, ноги.</a:t>
            </a:r>
            <a:endParaRPr b="0" lang="en-US" sz="14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93" name="Прямоугольник 9"/>
          <p:cNvSpPr/>
          <p:nvPr/>
        </p:nvSpPr>
        <p:spPr>
          <a:xfrm>
            <a:off x="-41400" y="1238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Описание обстоятельств и причин несчастных случаев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179280" y="3639960"/>
          <a:ext cx="8856720" cy="2381400"/>
        </p:xfrm>
        <a:graphic>
          <a:graphicData uri="http://schemas.openxmlformats.org/drawingml/2006/table">
            <a:tbl>
              <a:tblPr/>
              <a:tblGrid>
                <a:gridCol w="6426360"/>
                <a:gridCol w="1216080"/>
                <a:gridCol w="1214280"/>
              </a:tblGrid>
              <a:tr h="384840">
                <a:tc>
                  <a:txBody>
                    <a:bodyPr lIns="54720" rIns="547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Довести до сведения работников АО «Завод Уралпрокат» обстоятельства и причины несчастного случая, произошедшего с плавильщиком металла и сплавов Рублевым К.С. 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01.06.2023 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ыполнено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cf5fc"/>
                    </a:solidFill>
                  </a:tcPr>
                </a:tc>
              </a:tr>
              <a:tr h="961560">
                <a:tc>
                  <a:txBody>
                    <a:bodyPr lIns="54720" rIns="547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В соответствии с постановлением Правительства РФ от 25.10.2019 № 1365 «О подготовке и об аттестации в области промышленной безопасности, по вопросам безопасности гидротехнических сооружений, безопасности в сфере электроэнергетики» осуществить аттестацию работников АО «Завод Уралпрокат», подпадающих под действие данного постановления.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01.09.2023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cf5fc"/>
                    </a:solidFill>
                  </a:tcPr>
                </a:tc>
              </a:tr>
              <a:tr h="1153800">
                <a:tc>
                  <a:txBody>
                    <a:bodyPr lIns="54720" rIns="547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Внести изменения в инструкцию по охране труда для плавильщиков, работающих на узле центробежного распыления алюминиевых гранул с использованием вибросита СВ-0,6, утвержденную директором АО «Завод Уралпрокат» 10.01.2023, и добавить фразу, запрещающую включать в работу разобранное вибросито. В инструкции указать о необходимости хранения ключа-бирки у сменного мастера на период ремонта и замены сетки. 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20.05.2023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ыполнено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cf5fc"/>
                    </a:solidFill>
                  </a:tcPr>
                </a:tc>
              </a:tr>
              <a:tr h="192600">
                <a:tc>
                  <a:txBody>
                    <a:bodyPr lIns="54720" rIns="547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Устранить нарушения  п.п. 6, 16, 40, 74, 309-312, 326, 669, 675, 676, 1064, 1311 ФНП ПБ № 512.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01.09.2023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marL="25560" algn="ctr">
                        <a:lnSpc>
                          <a:spcPct val="115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cf5fc"/>
                    </a:solidFill>
                  </a:tcPr>
                </a:tc>
              </a:tr>
            </a:tbl>
          </a:graphicData>
        </a:graphic>
      </p:graphicFrame>
      <p:sp>
        <p:nvSpPr>
          <p:cNvPr id="595" name="Прямоугольник 6"/>
          <p:cNvSpPr/>
          <p:nvPr/>
        </p:nvSpPr>
        <p:spPr>
          <a:xfrm>
            <a:off x="0" y="321156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Мероприятия по устранению причин, способствующих наступлению несчастного случая </a:t>
            </a:r>
            <a:endParaRPr b="0" lang="en-US" sz="1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Прямоугольник 9"/>
          <p:cNvSpPr/>
          <p:nvPr/>
        </p:nvSpPr>
        <p:spPr>
          <a:xfrm>
            <a:off x="-4140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Описание обстоятельств и причин несчастных случаев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97" name="Прямоугольник 1"/>
          <p:cNvSpPr/>
          <p:nvPr/>
        </p:nvSpPr>
        <p:spPr>
          <a:xfrm>
            <a:off x="3777480" y="33192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АО «ММК»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98" name="Прямоугольник 2"/>
          <p:cNvSpPr/>
          <p:nvPr/>
        </p:nvSpPr>
        <p:spPr>
          <a:xfrm>
            <a:off x="76320" y="620640"/>
            <a:ext cx="89280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После проведения инструктажа Чудиновских С.В. выдал Извекову Е.Ф. задание на выявление утечек воды в нижней части кессона котла-охладителя конвертера № 1. В 11:00 часов Извеков Е.Ф. сообщил о выявленных утечках воды. Находясь в месте выполнения работ, Извеков Е.Ф. пристегнулся карабином страховочной системы за ремонтное устройство и показал Гусеву Д.В. и Усманову В.Р. на места утечек воды котла охладителя конвертера № 1, которые они должны были устранить.</a:t>
            </a:r>
            <a:endParaRPr b="0" lang="en-US" sz="14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В 16:30 часов Извеков Е.Ф. получил задание проверить количество не устраненных утечек воды.</a:t>
            </a:r>
            <a:endParaRPr b="0" lang="en-US" sz="14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Извеков Е.Ф. спустился с площадки обслуживания конвертера № 1 на подвесные деревянные леса, на которых работали Усманов В.Р. и Гусев Д.В., пристегнулся карабином страховочной системы за подвес лесов. Находясь на подвесных деревянных лесах, Извеков Е.Ф. увидел, что на наклонной поверхности кессона не устранена одна ранее указанная утечка воды, о чем сказал Усманову В.Р. и Гусеву Д.В.</a:t>
            </a:r>
            <a:endParaRPr b="0" lang="en-US" sz="14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В 16:50 часов, с верхней части кессона котла-охладителя конвертера № 1 произошло падение шлакометаллического настыля по левой стороне наклонной панели кессона, который в момент падения разрушил приваренную к панели кессона на металлический уголок лестницу и упал на подвесные деревянные леса. От удара произошло их полное разрушение, в результате чего Извеков Е.Ф. и Усманов В.Р. упали на донышко конвертера № 1, а Гусев Д.В. остался на уцелевшем брусе, закрепленном на подвесе лесов. </a:t>
            </a:r>
            <a:endParaRPr b="0" lang="en-US" sz="1400" spc="-1" strike="noStrike">
              <a:solidFill>
                <a:srgbClr val="002060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123840" y="4459320"/>
          <a:ext cx="8929800" cy="2340000"/>
        </p:xfrm>
        <a:graphic>
          <a:graphicData uri="http://schemas.openxmlformats.org/drawingml/2006/table">
            <a:tbl>
              <a:tblPr/>
              <a:tblGrid>
                <a:gridCol w="6380280"/>
                <a:gridCol w="1274760"/>
                <a:gridCol w="1274760"/>
              </a:tblGrid>
              <a:tr h="457200">
                <a:tc>
                  <a:txBody>
                    <a:bodyPr lIns="54720" rIns="54720" tIns="0" bIns="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Довести до сведения работников ПАО «ММК» и ООО «ОСК» обстоятельства и причины несчастного случая произошедшего в результате падения шлакометаллического настыля в кессоне котла охладителя конвертера №1 ККЦ ПАО «ММК»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26.05.2023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выполнено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cf5fc"/>
                    </a:solidFill>
                  </a:tcPr>
                </a:tc>
              </a:tr>
              <a:tr h="609480">
                <a:tc>
                  <a:txBody>
                    <a:bodyPr lIns="54720" rIns="54720" tIns="0" bIns="0" anchor="t">
                      <a:noAutofit/>
                    </a:bodyPr>
                    <a:p>
                      <a:pPr marL="1440" indent="-1440" algn="just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Начальнику цеха ККЦ ПАО «ММК» внести изменения в локальные нормативные документы, включающие в себя порядок и технологию очистки оборудования от технологических материалов (настылей, скрапин  и т.д.), в том числе очистку вертикальной части кессона перед выполнением работ внутри кессона котла-охладителя конвертера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01.06.2023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выполнено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cf5fc"/>
                    </a:solidFill>
                  </a:tcPr>
                </a:tc>
              </a:tr>
              <a:tr h="609480">
                <a:tc>
                  <a:txBody>
                    <a:bodyPr lIns="54720" rIns="54720" tIns="0" bIns="0" anchor="t">
                      <a:noAutofit/>
                    </a:bodyPr>
                    <a:p>
                      <a:pPr marL="1440" indent="-1440" algn="just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ПАО «ММК» при составлении графиков ремонтов конвертеров ККЦ ПАО «ММК» учитывать время ППР достаточное для проведения демонтажа-монтажа крышек котла, очистки котла от шлакометаллических настылей. Включить в нормативный локальный документ данное требование.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26.06.2023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cf5fc"/>
                    </a:solidFill>
                  </a:tcPr>
                </a:tc>
              </a:tr>
              <a:tr h="319320">
                <a:tc>
                  <a:txBody>
                    <a:bodyPr lIns="54720" rIns="54720" tIns="0" bIns="0" anchor="t">
                      <a:noAutofit/>
                    </a:bodyPr>
                    <a:p>
                      <a:pPr marL="1440" indent="-1440" algn="just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Цех «Стальсервис №1» ООО «ОСК»: Провести внеплановую идентификацию и оценку профессиональных рисков по профессии слесарь-ремонтник.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26.05.2023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выполнено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cf5fc"/>
                    </a:solidFill>
                  </a:tcPr>
                </a:tc>
              </a:tr>
              <a:tr h="344520">
                <a:tc>
                  <a:txBody>
                    <a:bodyPr lIns="54720" rIns="547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Цех «Стальсервис №1» ООО «ОСК»: Провести персоналу цеха внеплановый инструктаж на рабочем месте, включая вопросы порядка организации работ.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26.05.2023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выполнено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cf5fc"/>
                    </a:solidFill>
                  </a:tcPr>
                </a:tc>
              </a:tr>
            </a:tbl>
          </a:graphicData>
        </a:graphic>
      </p:graphicFrame>
      <p:sp>
        <p:nvSpPr>
          <p:cNvPr id="600" name="Прямоугольник 5"/>
          <p:cNvSpPr/>
          <p:nvPr/>
        </p:nvSpPr>
        <p:spPr>
          <a:xfrm>
            <a:off x="173160" y="4121280"/>
            <a:ext cx="875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Мероприятия по устранению причин, способствующих наступлению несчастного случая </a:t>
            </a:r>
            <a:endParaRPr b="0" lang="en-US" sz="1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Прямоугольник 4"/>
          <p:cNvSpPr/>
          <p:nvPr/>
        </p:nvSpPr>
        <p:spPr>
          <a:xfrm>
            <a:off x="3424320" y="47628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  <a:ea typeface="Cambria"/>
              </a:rPr>
              <a:t>AO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«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ЕВРАЗ НТМК»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2" name="Прямоугольник 8"/>
          <p:cNvSpPr/>
          <p:nvPr/>
        </p:nvSpPr>
        <p:spPr>
          <a:xfrm>
            <a:off x="324000" y="981000"/>
            <a:ext cx="8640720" cy="35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02 мая 2023 года в 19:11 на коксохимическом производстве произошел выход пека в тоннеле с машинной стороны третьего блока пекококсовых печей через отопительный простенок 14 печи с последующим задымлением и возгоранием.</a:t>
            </a:r>
            <a:endParaRPr b="0" lang="en-US" sz="16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Возгорание локализовали до приезда пожарной службы, своими силами. Примерно в 19:30 начальник производства Звонарев В.В., газовщик Калганов А.А. зашли в тоннель чтобы определить место выхода пека для устранения аварийной ситуации и определения дальнейших действий. В это время произошел выброс пламени  районе воздушных клапанов (ГВК). В результате чего начальник производства Звонарев В.В. и газовщик Калганов А.А. получили термические ожоги лица и рук.</a:t>
            </a:r>
            <a:endParaRPr b="0" lang="en-US" sz="16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В настоящий момент, данный несчастный случай находится на стадии расследования.</a:t>
            </a:r>
            <a:endParaRPr b="0" lang="en-US" sz="1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3" name="Прямоугольник 9"/>
          <p:cNvSpPr/>
          <p:nvPr/>
        </p:nvSpPr>
        <p:spPr>
          <a:xfrm>
            <a:off x="-4140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Описание обстоятельств и причин несчастных случаев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4" name=""/>
          <p:cNvGraphicFramePr/>
          <p:nvPr/>
        </p:nvGraphicFramePr>
        <p:xfrm>
          <a:off x="287280" y="981000"/>
          <a:ext cx="8640720" cy="5453280"/>
        </p:xfrm>
        <a:graphic>
          <a:graphicData uri="http://schemas.openxmlformats.org/drawingml/2006/table">
            <a:tbl>
              <a:tblPr/>
              <a:tblGrid>
                <a:gridCol w="7323120"/>
                <a:gridCol w="1317600"/>
              </a:tblGrid>
              <a:tr h="754200">
                <a:tc gridSpan="2"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лановые проверки 2023 в сравнении с 2022 годом     (1)</a:t>
                      </a:r>
                      <a:endParaRPr b="0" lang="en-US" sz="2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6560">
                <a:tc>
                  <a:txBody>
                    <a:bodyPr lIns="61920" rIns="61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личество плановых проверок  в 2022 г.</a:t>
                      </a:r>
                      <a:endParaRPr b="0" lang="en-US" sz="16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Arial Narrow"/>
                          <a:ea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03160">
                <a:tc>
                  <a:txBody>
                    <a:bodyPr lIns="61920" rIns="61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личество плановых проверок в 2023 г.</a:t>
                      </a:r>
                      <a:endParaRPr b="0" lang="en-US" sz="16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Arial Narrow"/>
                          <a:ea typeface="Calibri"/>
                        </a:rPr>
                        <a:t>28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16120"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Изменения, %</a:t>
                      </a:r>
                      <a:endParaRPr b="0" lang="en-US" sz="16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115 %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74800">
                <a:tc>
                  <a:txBody>
                    <a:bodyPr lIns="61920" rIns="61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личество проверок в 2022 г., по итогам проведения которых выявлены правонарушения (выданы предписания)</a:t>
                      </a:r>
                      <a:endParaRPr b="0" lang="en-US" sz="16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Arial Narrow"/>
                          <a:ea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73000">
                <a:tc>
                  <a:txBody>
                    <a:bodyPr lIns="61920" rIns="61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личество проверок в 2023 г., по итогам проведения которых выявлены правонарушения (выданы предписания)</a:t>
                      </a:r>
                      <a:endParaRPr b="0" lang="en-US" sz="16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Arial Narrow"/>
                          <a:ea typeface="Calibri"/>
                        </a:rPr>
                        <a:t>28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5440">
                <a:tc>
                  <a:txBody>
                    <a:bodyPr lIns="61920" rIns="61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Изменения, % </a:t>
                      </a:r>
                      <a:endParaRPr b="0" lang="en-US" sz="16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2d050"/>
                          </a:solidFill>
                          <a:latin typeface="Arial Narrow"/>
                        </a:rPr>
                        <a:t>(Вывод: 100 % КМ завершено выявлением правонарушений)</a:t>
                      </a:r>
                      <a:endParaRPr b="0" lang="en-US" sz="16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0 %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05" name="Прямоугольник 3"/>
          <p:cNvSpPr/>
          <p:nvPr/>
        </p:nvSpPr>
        <p:spPr>
          <a:xfrm>
            <a:off x="250920" y="11592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Анализ основных показателей надзорной деятельности в период с 01.01.2023 по 01.06.2023 и аналогичный период 2022  года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6" name=""/>
          <p:cNvGraphicFramePr/>
          <p:nvPr/>
        </p:nvGraphicFramePr>
        <p:xfrm>
          <a:off x="324000" y="1052640"/>
          <a:ext cx="8569080" cy="5472000"/>
        </p:xfrm>
        <a:graphic>
          <a:graphicData uri="http://schemas.openxmlformats.org/drawingml/2006/table">
            <a:tbl>
              <a:tblPr/>
              <a:tblGrid>
                <a:gridCol w="7059600"/>
                <a:gridCol w="1509480"/>
              </a:tblGrid>
              <a:tr h="550800">
                <a:tc gridSpan="2"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лановые проверки 2023 в сравнении с 2022 годом     (2)</a:t>
                      </a:r>
                      <a:endParaRPr b="0" lang="en-US" sz="2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77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личество проверок в 2022 г., по итогам которых, по фактам нарушений возбуждены адм. дела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  <a:ea typeface="Calibri"/>
                        </a:rPr>
                        <a:t>13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651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личество проверок в 2023 г., по итогам которых, по фактам нарушений возбуждены адм. дела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  <a:ea typeface="Calibri"/>
                        </a:rPr>
                        <a:t>28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47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Изменения, % 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115 %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88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Выявлено правонарушений в 2022 г.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85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04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Выявлено правонарушений в 2023 г.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377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84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Изменения, %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2d050"/>
                          </a:solidFill>
                          <a:latin typeface="Arial Narrow"/>
                        </a:rPr>
                        <a:t>(Вывод: проверялось большее количество ОПО при большем количестве проверок)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344 %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07" name="Прямоугольник 3"/>
          <p:cNvSpPr/>
          <p:nvPr/>
        </p:nvSpPr>
        <p:spPr>
          <a:xfrm>
            <a:off x="250920" y="18900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Анализ основных показателей надзорной деятельности в период с 01.01.2023 по 01.06.2023 и аналогичный период 2022  года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8" name=""/>
          <p:cNvGraphicFramePr/>
          <p:nvPr/>
        </p:nvGraphicFramePr>
        <p:xfrm>
          <a:off x="250920" y="744480"/>
          <a:ext cx="8712000" cy="6007320"/>
        </p:xfrm>
        <a:graphic>
          <a:graphicData uri="http://schemas.openxmlformats.org/drawingml/2006/table">
            <a:tbl>
              <a:tblPr/>
              <a:tblGrid>
                <a:gridCol w="7383240"/>
                <a:gridCol w="1328760"/>
              </a:tblGrid>
              <a:tr h="457200">
                <a:tc gridSpan="2"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лановые проверки 2023 в сравнении с 2022 годом     (3)</a:t>
                      </a:r>
                      <a:endParaRPr b="0" lang="en-US" sz="2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личество нарушений на 1 предписание в 2022 г.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6,5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98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личество нарушений на 1 предписание в 2023 г.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13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31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Изменения, %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100 %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91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личество инспекторов в отделе (с 01.01.2023 по 01.06.2023)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16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личество инспекторов в отделе (аналогичный период 2022)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12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1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Изменения, %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+ 33 %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971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личество плановых проверок на 1 инспектора в 2022 г.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6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личество плановых проверок на 1 инспектора в 2023 г.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1,75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972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Изменения, %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2d050"/>
                          </a:solidFill>
                          <a:latin typeface="Arial Narrow"/>
                        </a:rPr>
                        <a:t>(Вывод: количество плановых проверок на 1 инспектора возросло несмотря на увеличение инспекторского состава)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59 %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09" name="Прямоугольник 3"/>
          <p:cNvSpPr/>
          <p:nvPr/>
        </p:nvSpPr>
        <p:spPr>
          <a:xfrm>
            <a:off x="250920" y="3636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Анализ основных показателей надзорной деятельности в период с 01.01.2023 по 01.06.2023 и аналогичный период 2022  года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0" name=""/>
          <p:cNvGraphicFramePr/>
          <p:nvPr/>
        </p:nvGraphicFramePr>
        <p:xfrm>
          <a:off x="179280" y="981000"/>
          <a:ext cx="8785440" cy="5699160"/>
        </p:xfrm>
        <a:graphic>
          <a:graphicData uri="http://schemas.openxmlformats.org/drawingml/2006/table">
            <a:tbl>
              <a:tblPr/>
              <a:tblGrid>
                <a:gridCol w="6400800"/>
                <a:gridCol w="2384640"/>
              </a:tblGrid>
              <a:tr h="371520">
                <a:tc gridSpan="2"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лановые проверки 2023 в сравнении с 2022 годом     (4)</a:t>
                      </a:r>
                      <a:endParaRPr b="0" lang="en-US" sz="2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68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личество предписаний на 1 инспектора при плановых проверках в 2022 г.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254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личество предписаний на 1 инспектора при плановых проверках в 2023 г.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1,75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97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Изменения, %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50 %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личество нарушений на 1 инспектора при плановых проверках в 2022 г.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7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683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личество нарушений на 1 инспектора при плановых проверках в 2023 г.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23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462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Изменения, %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2d050"/>
                          </a:solidFill>
                          <a:latin typeface="Arial Narrow"/>
                        </a:rPr>
                        <a:t>(Вывод: количество нарушений на 1 инспектора при плановых проверках возросло несмотря на увеличение инспекторского состава)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230 %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11" name="Прямоугольник 3"/>
          <p:cNvSpPr/>
          <p:nvPr/>
        </p:nvSpPr>
        <p:spPr>
          <a:xfrm>
            <a:off x="250920" y="3636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Анализ основных показателей надзорной деятельности в период с 01.01.2023 по 01.06.2023 и аналогичный период 2022  года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Диаграмма 1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6912000" cy="482760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5614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сколько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%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изменилось количество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лановых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роверок 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2023 году в сравнении с 2022 годом</a:t>
            </a:r>
            <a:endParaRPr b="0" lang="en-US" sz="1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14" name="Прямая соединительная линия 3"/>
          <p:cNvSpPr/>
          <p:nvPr/>
        </p:nvSpPr>
        <p:spPr>
          <a:xfrm>
            <a:off x="2050920" y="4221000"/>
            <a:ext cx="54007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5" name="TextBox 3"/>
          <p:cNvSpPr/>
          <p:nvPr/>
        </p:nvSpPr>
        <p:spPr>
          <a:xfrm>
            <a:off x="2662200" y="220500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УВЕЛИЧЕНИЕ НА 115 %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6" name="Прямоугольник 5"/>
          <p:cNvSpPr/>
          <p:nvPr/>
        </p:nvSpPr>
        <p:spPr>
          <a:xfrm>
            <a:off x="250920" y="18900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Анализ основных показателей надзорной деятельности в период с 01.01.2023 по 01.06.2023 и аналогичный период 2022  года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Диаграмма 7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7488360" cy="482760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сколько % изменилось количество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являемых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вонарушений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ри проведении плановых проверок в 2023 году в сравнении с 2022 годом</a:t>
            </a:r>
            <a:endParaRPr b="0" lang="en-US" sz="20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19" name="Прямая соединительная линия 3"/>
          <p:cNvSpPr/>
          <p:nvPr/>
        </p:nvSpPr>
        <p:spPr>
          <a:xfrm>
            <a:off x="2195640" y="5229360"/>
            <a:ext cx="530208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0" name="TextBox 8"/>
          <p:cNvSpPr/>
          <p:nvPr/>
        </p:nvSpPr>
        <p:spPr>
          <a:xfrm>
            <a:off x="2916360" y="2133720"/>
            <a:ext cx="28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УВЕЛИЧЕНИЕ НА 344 %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1" name="Прямоугольник 5"/>
          <p:cNvSpPr/>
          <p:nvPr/>
        </p:nvSpPr>
        <p:spPr>
          <a:xfrm>
            <a:off x="250920" y="3636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Анализ основных показателей надзорной деятельности в период с 01.01.2023 по 01.06.2023 и аналогичный период 2022  года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Диаграмма 2" descr=""/>
          <p:cNvPicPr/>
          <p:nvPr/>
        </p:nvPicPr>
        <p:blipFill>
          <a:blip r:embed="rId1"/>
          <a:stretch/>
        </p:blipFill>
        <p:spPr>
          <a:xfrm>
            <a:off x="55440" y="1967040"/>
            <a:ext cx="3127320" cy="4863960"/>
          </a:xfrm>
          <a:prstGeom prst="rect">
            <a:avLst/>
          </a:prstGeom>
          <a:ln w="0">
            <a:noFill/>
          </a:ln>
        </p:spPr>
      </p:pic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8280" y="1267920"/>
            <a:ext cx="307512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59e"/>
                </a:solidFill>
                <a:latin typeface="Times New Roman"/>
                <a:ea typeface="Times New Roman"/>
              </a:rPr>
              <a:t>Количество административных штрафов </a:t>
            </a:r>
            <a:endParaRPr b="0" lang="en-US" sz="20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24" name="Заголовок 2"/>
          <p:cNvSpPr/>
          <p:nvPr/>
        </p:nvSpPr>
        <p:spPr>
          <a:xfrm>
            <a:off x="5946840" y="1197000"/>
            <a:ext cx="33940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59e"/>
                </a:solidFill>
                <a:latin typeface="Times New Roman"/>
                <a:ea typeface="Times New Roman"/>
              </a:rPr>
              <a:t>Сумма наложенных штрафов,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59e"/>
                </a:solidFill>
                <a:latin typeface="Times New Roman"/>
                <a:ea typeface="Times New Roman"/>
              </a:rPr>
              <a:t>тыс. рублей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5" name="TextBox 5"/>
          <p:cNvSpPr/>
          <p:nvPr/>
        </p:nvSpPr>
        <p:spPr>
          <a:xfrm>
            <a:off x="1636560" y="733320"/>
            <a:ext cx="590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АДМИНИСТРАТИВНОЕ ДЕЛОПРОИЗВОДСТВО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о МОМН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За 1 квартал 2022 и 2023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6" name="TextBox 8"/>
          <p:cNvSpPr/>
          <p:nvPr/>
        </p:nvSpPr>
        <p:spPr>
          <a:xfrm>
            <a:off x="7667640" y="2276640"/>
            <a:ext cx="12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∑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2 610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7" name="TextBox 9"/>
          <p:cNvSpPr/>
          <p:nvPr/>
        </p:nvSpPr>
        <p:spPr>
          <a:xfrm>
            <a:off x="6300720" y="3789360"/>
            <a:ext cx="11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∑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1 470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628" name="Picture 9" descr=""/>
          <p:cNvPicPr/>
          <p:nvPr/>
        </p:nvPicPr>
        <p:blipFill>
          <a:blip r:embed="rId2"/>
          <a:stretch/>
        </p:blipFill>
        <p:spPr>
          <a:xfrm>
            <a:off x="3346560" y="3591000"/>
            <a:ext cx="2597040" cy="2833560"/>
          </a:xfrm>
          <a:prstGeom prst="rect">
            <a:avLst/>
          </a:prstGeom>
          <a:ln w="0">
            <a:noFill/>
          </a:ln>
        </p:spPr>
      </p:pic>
      <p:pic>
        <p:nvPicPr>
          <p:cNvPr id="629" name="Диаграмма 15" descr=""/>
          <p:cNvPicPr/>
          <p:nvPr/>
        </p:nvPicPr>
        <p:blipFill>
          <a:blip r:embed="rId3"/>
          <a:stretch/>
        </p:blipFill>
        <p:spPr>
          <a:xfrm>
            <a:off x="5961240" y="1938240"/>
            <a:ext cx="3125520" cy="4864320"/>
          </a:xfrm>
          <a:prstGeom prst="rect">
            <a:avLst/>
          </a:prstGeom>
          <a:ln w="0">
            <a:noFill/>
          </a:ln>
        </p:spPr>
      </p:pic>
      <p:sp>
        <p:nvSpPr>
          <p:cNvPr id="630" name="Прямоугольник 10"/>
          <p:cNvSpPr/>
          <p:nvPr/>
        </p:nvSpPr>
        <p:spPr>
          <a:xfrm>
            <a:off x="249120" y="25560"/>
            <a:ext cx="871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Анализ основных показателей надзорной деятельности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5" descr="C:\Users\v.noskov\Desktop\uralskiy.jpg"/>
          <p:cNvPicPr/>
          <p:nvPr/>
        </p:nvPicPr>
        <p:blipFill>
          <a:blip r:embed="rId1"/>
          <a:stretch/>
        </p:blipFill>
        <p:spPr>
          <a:xfrm>
            <a:off x="596880" y="1481040"/>
            <a:ext cx="4681440" cy="473076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-7920" y="475920"/>
            <a:ext cx="915192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состоянию на 01.01.2022 г. Уральским управлением Ростехнадзора зарегистрировано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57 организации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эксплуатирующих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99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О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однадзорных металлургическому надзору</a:t>
            </a:r>
            <a:endParaRPr b="0" lang="en-US" sz="1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61" name="TextBox 1"/>
          <p:cNvSpPr/>
          <p:nvPr/>
        </p:nvSpPr>
        <p:spPr>
          <a:xfrm>
            <a:off x="6026040" y="2276640"/>
            <a:ext cx="3024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Челябинская область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151 ОПО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вердловская область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137 ОПО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Курганская область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11 ОПО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2" name="Овал 1"/>
          <p:cNvSpPr/>
          <p:nvPr/>
        </p:nvSpPr>
        <p:spPr>
          <a:xfrm>
            <a:off x="971640" y="2471760"/>
            <a:ext cx="3671640" cy="3602160"/>
          </a:xfrm>
          <a:prstGeom prst="ellipse">
            <a:avLst/>
          </a:prstGeom>
          <a:noFill/>
          <a:ln w="25560">
            <a:solidFill>
              <a:srgbClr val="4272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3" name="Прямоугольник 2"/>
          <p:cNvSpPr/>
          <p:nvPr/>
        </p:nvSpPr>
        <p:spPr>
          <a:xfrm>
            <a:off x="0" y="1159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Характеристика поднадзорных производств и объектов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Box 6"/>
          <p:cNvSpPr/>
          <p:nvPr/>
        </p:nvSpPr>
        <p:spPr>
          <a:xfrm>
            <a:off x="754200" y="260280"/>
            <a:ext cx="80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Анализ соблюдения законодательно установленных процедур регулирования промышленной безопасности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2" name="TextBox 7"/>
          <p:cNvSpPr/>
          <p:nvPr/>
        </p:nvSpPr>
        <p:spPr>
          <a:xfrm>
            <a:off x="324000" y="98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3" name="TextBox 3"/>
          <p:cNvSpPr/>
          <p:nvPr/>
        </p:nvSpPr>
        <p:spPr>
          <a:xfrm>
            <a:off x="324000" y="84132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роизводственный контроль за соблюдением требований промышленной безопасности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268200" y="2276640"/>
          <a:ext cx="8444160" cy="3044520"/>
        </p:xfrm>
        <a:graphic>
          <a:graphicData uri="http://schemas.openxmlformats.org/drawingml/2006/table">
            <a:tbl>
              <a:tblPr/>
              <a:tblGrid>
                <a:gridCol w="4222800"/>
                <a:gridCol w="4221360"/>
              </a:tblGrid>
              <a:tr h="66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c5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Свердловская, Челябинская и Курганская области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c5ef"/>
                    </a:solidFill>
                  </a:tcPr>
                </a:tc>
              </a:tr>
              <a:tr h="38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Закреплено за отделом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Rockwell"/>
                        </a:rPr>
                        <a:t>: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ambria"/>
                          <a:ea typeface="Cambria"/>
                        </a:rPr>
                        <a:t>135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</a:tr>
              <a:tr h="66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Рассмотрено отчетов о ПК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Rockwell"/>
                        </a:rPr>
                        <a:t>: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ambria"/>
                          <a:ea typeface="Cambria"/>
                        </a:rPr>
                        <a:t>117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</a:tr>
              <a:tr h="66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Деятельность не ведется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Rockwell"/>
                        </a:rPr>
                        <a:t>: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Cambria"/>
                          <a:ea typeface="Cambria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ambria"/>
                          <a:ea typeface="Cambr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</a:tr>
              <a:tr h="66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Сведений не предоставлено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Rockwell"/>
                        </a:rPr>
                        <a:t>: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ambria"/>
                          <a:ea typeface="Cambr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</a:tr>
            </a:tbl>
          </a:graphicData>
        </a:graphic>
      </p:graphicFrame>
      <p:sp>
        <p:nvSpPr>
          <p:cNvPr id="635" name="TextBox 11"/>
          <p:cNvSpPr/>
          <p:nvPr/>
        </p:nvSpPr>
        <p:spPr>
          <a:xfrm>
            <a:off x="216000" y="544500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ланируется привлечение к административной ответственности, организаций не предоставивших отчет об организации производственного контроля за соблюдением требований промышленной безопасности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6" name="Прямоугольник 1"/>
          <p:cNvSpPr/>
          <p:nvPr/>
        </p:nvSpPr>
        <p:spPr>
          <a:xfrm>
            <a:off x="216000" y="162396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За межрегиональным отделом металлургического надзора закреплено 135 предприятий по контролю отчетов о ПК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Box 6"/>
          <p:cNvSpPr/>
          <p:nvPr/>
        </p:nvSpPr>
        <p:spPr>
          <a:xfrm>
            <a:off x="765000" y="11592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Анализ соблюдения законодательно установленных процедур регулирования промышленной безопасности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8" name="TextBox 7"/>
          <p:cNvSpPr/>
          <p:nvPr/>
        </p:nvSpPr>
        <p:spPr>
          <a:xfrm>
            <a:off x="358920" y="1341360"/>
            <a:ext cx="8280360" cy="48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о состоянию на 01.06.2023, под надзором межрегионального отдела металлургического надзора находится 1537 технических устройств, в т.ч. 190 электродуговых печей, 205 индукционных печей, 77 печей вагранок и 175 технических устройств (различного вида) по получению цветных металлов. Примерное количество зданий и сооружений – 388, включая дымовые трубы и другие сооружения. При этом здания и сооружения отработавшие нормативный срок эксплуатации подлежат экспертизе промышленной безопасности.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Фактов эксплуатации зданий и сооружений без проведения экспертизы промышленной безопасности, не зафиксировано. Однако, имеются отдельные случаи несвоевременного проведения очередной экспертизы промышленной безопасности, а также несвоевременного выполнения мероприятий предписанных экспертизой промышленной безопасности, за что применяется административное наказание, вплоть до приостановки деятельности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9" name="Прямоугольник 3"/>
          <p:cNvSpPr/>
          <p:nvPr/>
        </p:nvSpPr>
        <p:spPr>
          <a:xfrm>
            <a:off x="2471760" y="763560"/>
            <a:ext cx="46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Экспертиза промышленной безопасности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Box 6"/>
          <p:cNvSpPr/>
          <p:nvPr/>
        </p:nvSpPr>
        <p:spPr>
          <a:xfrm>
            <a:off x="765000" y="11592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Анализ соблюдения законодательно установленных процедур регулирования промышленной безопасности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1" name="Прямоугольник 1"/>
          <p:cNvSpPr/>
          <p:nvPr/>
        </p:nvSpPr>
        <p:spPr>
          <a:xfrm>
            <a:off x="660960" y="763560"/>
            <a:ext cx="82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Страхование ответственности за причинения вреда при эксплуатации ОПО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2" name="Прямоугольник 4"/>
          <p:cNvSpPr/>
          <p:nvPr/>
        </p:nvSpPr>
        <p:spPr>
          <a:xfrm>
            <a:off x="225360" y="1484280"/>
            <a:ext cx="8728200" cy="32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од надзором межрегионального отдела металлургического надзора находится 157 организаций эксплуатирующих опасные производственные объекты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о состоянию на 01.06.2023, полис страхования отсутствует у 13 предприятий, которые, в настоящий момент, не ведут лицензионную деятельность. Таким образом, процент организации с отсутствующим полисом страхования, составляет – 8 %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о данным предприятиям будет проводиться проверка на наличие признаков опасности с последующим исключением из государственного реестра основных производственных объектов.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Прямоугольник 1"/>
          <p:cNvSpPr/>
          <p:nvPr/>
        </p:nvSpPr>
        <p:spPr>
          <a:xfrm>
            <a:off x="2411280" y="189000"/>
            <a:ext cx="46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Анализ показателей лицензирования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4" name="Прямоугольник 2"/>
          <p:cNvSpPr/>
          <p:nvPr/>
        </p:nvSpPr>
        <p:spPr>
          <a:xfrm>
            <a:off x="108000" y="603360"/>
            <a:ext cx="9036000" cy="45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од надзором межрегионального отдела металлургического надзора находится 157 организаций эксплуатирующих опасные производственные объекты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Без лицензии числится 1 предприятие, вместе с тем, на 13 лицензионная деятельность не ведется по следующим причинам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ликвидации из ЕГРЮЛ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введено конкурсное управление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отсутствует эксплуатирующий персонал, эксплуатация ОПО не ведется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НАО ПКП «РТК» - завершает процесс аттестации работников и проведения экспертиз промышленной безопасности, с целью получения лицензии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Таким образом, процент организации не имеющих лицензии, за исключением тех, которые деятельность не ведут, составляет – 1,5 %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Прямоугольник 1"/>
          <p:cNvSpPr/>
          <p:nvPr/>
        </p:nvSpPr>
        <p:spPr>
          <a:xfrm>
            <a:off x="2411280" y="189000"/>
            <a:ext cx="46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Анализ показателей лицензирования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6" name="Прямоугольник 8"/>
          <p:cNvSpPr/>
          <p:nvPr/>
        </p:nvSpPr>
        <p:spPr>
          <a:xfrm>
            <a:off x="142920" y="1052640"/>
            <a:ext cx="8928000" cy="35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Контроль за соблюдением лицензионных требований, включает в себя проверки как организаций эксплуатирующих ОПО, так экспертных организаций. На текущий год запланировано 4 проверки экспертных организаций, из которых 1 уже проведена. Выявлено 2 нарушения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Из наиболее серьёзных нарушений можно отметить, нарушение подпункта «В» пункта 5 Постановления Правительства РФ от 16.09.2020 г. № 1477 «О лицензировании деятельности по проведению экспертизы промышленной безопасности», пункта 13 федеральных норм и правил от 20.10.2020 № 420 «Правила проведения экспертизы промышленной безопасности», - не обеспечивается полнота и всесторонность проводимого исследования по объектам экспертизы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7" name="Прямоугольник 1"/>
          <p:cNvSpPr/>
          <p:nvPr/>
        </p:nvSpPr>
        <p:spPr>
          <a:xfrm>
            <a:off x="108000" y="557280"/>
            <a:ext cx="89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Контроль за соблюдением лицензионных требований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Прямоугольник 4"/>
          <p:cNvSpPr/>
          <p:nvPr/>
        </p:nvSpPr>
        <p:spPr>
          <a:xfrm>
            <a:off x="1403280" y="11592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Общая оценка состояния безопасности и противоаварийная устойчивость предприятий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9" name="Прямоугольник 5"/>
          <p:cNvSpPr/>
          <p:nvPr/>
        </p:nvSpPr>
        <p:spPr>
          <a:xfrm>
            <a:off x="395280" y="693720"/>
            <a:ext cx="8353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В целях обеспечения готовности организаций, эксплуатирующих опасные производственные объекты, к действиям по локализации и ликвидации последствий аварий, на всех ОПО разработан план мероприятий по локализации и ликвидации последствий аварий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Осуществляется контроль за проведением учебных тревог, в том числе при проведении постоянного государственного надзора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Все предприятия имеют договор аварийного прикрытия с аварийно-спасательными формированиями (АСФ) или аварийно-спасательными службами (АСС). У некоторых предприятий имеются собственные АСС или АСФ в виде отдельных подразделений или отдельных юридических лиц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оскольку, нормативные документы по деятельности газоспасательных служб имеют рекомендательный характер и не входят в приказ Ростехнадзора от 02.03.2021 № 81 «Об утверждении перечней нормативных правовых актов (их отдельных положений), содержащих обязательные требования, оценка соблюдения которых осуществляется в рамках государственного контроля (надзора), привлечения к административной ответственности», -  деятельность таких служб не подлежит проверке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ротивоаварийную устойчивость опасных производственных объектов, поднадзорных межрегиональному отделу металлургического надзора Уральского управления Ростехнадзора можно охарактеризовать, как – удовлетворительную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995280" y="1125000"/>
            <a:ext cx="547236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mbria"/>
              </a:rPr>
              <a:t>СПАСИБО ЗА ВНИМАНИЕ</a:t>
            </a:r>
            <a:endParaRPr b="0" lang="en-US" sz="4000" spc="-1" strike="noStrike">
              <a:solidFill>
                <a:srgbClr val="002060"/>
              </a:solidFill>
              <a:latin typeface="Cambr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2" descr=""/>
          <p:cNvPicPr/>
          <p:nvPr/>
        </p:nvPicPr>
        <p:blipFill>
          <a:blip r:embed="rId1"/>
          <a:srcRect l="3750" t="13675" r="13931" b="10567"/>
          <a:stretch/>
        </p:blipFill>
        <p:spPr>
          <a:xfrm>
            <a:off x="-3240" y="0"/>
            <a:ext cx="9147240" cy="6858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65" name="Диаграмма 4" descr=""/>
          <p:cNvPicPr/>
          <p:nvPr/>
        </p:nvPicPr>
        <p:blipFill>
          <a:blip r:embed="rId2"/>
          <a:stretch/>
        </p:blipFill>
        <p:spPr>
          <a:xfrm>
            <a:off x="57240" y="150840"/>
            <a:ext cx="5683320" cy="6727680"/>
          </a:xfrm>
          <a:prstGeom prst="rect">
            <a:avLst/>
          </a:prstGeom>
          <a:ln w="0">
            <a:noFill/>
          </a:ln>
        </p:spPr>
      </p:pic>
      <p:sp>
        <p:nvSpPr>
          <p:cNvPr id="566" name="TextBox 1"/>
          <p:cNvSpPr/>
          <p:nvPr/>
        </p:nvSpPr>
        <p:spPr>
          <a:xfrm>
            <a:off x="4067280" y="1189080"/>
            <a:ext cx="47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аспределение ОПО по классам опасности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7" name="Прямоугольник 6"/>
          <p:cNvSpPr/>
          <p:nvPr/>
        </p:nvSpPr>
        <p:spPr>
          <a:xfrm>
            <a:off x="-27000" y="237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Характеристика поднадзорных производств и объектов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8" name="TextBox 7"/>
          <p:cNvSpPr/>
          <p:nvPr/>
        </p:nvSpPr>
        <p:spPr>
          <a:xfrm>
            <a:off x="5572080" y="5516640"/>
            <a:ext cx="35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менения количества поднадзорных ОПО не происходило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115640" y="274680"/>
            <a:ext cx="6986520" cy="99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01.06.2023 г. на территории Уральского управления Ростехнадзора </a:t>
            </a:r>
            <a:br>
              <a:rPr sz="1600"/>
            </a:b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 </a:t>
            </a: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классом</a:t>
            </a: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асности зарегистрировано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 ОПО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надзорных металлургическому надзору (объекты постоянного надзора)</a:t>
            </a:r>
            <a:endParaRPr b="0" lang="en-US" sz="1600" spc="-1" strike="noStrike">
              <a:solidFill>
                <a:srgbClr val="002060"/>
              </a:solidFill>
              <a:latin typeface="Cambria"/>
            </a:endParaRPr>
          </a:p>
        </p:txBody>
      </p:sp>
      <p:pic>
        <p:nvPicPr>
          <p:cNvPr id="570" name="Picture 4" descr=""/>
          <p:cNvPicPr/>
          <p:nvPr/>
        </p:nvPicPr>
        <p:blipFill>
          <a:blip r:embed="rId1"/>
          <a:srcRect l="3452" t="25051" r="49963" b="36474"/>
          <a:stretch/>
        </p:blipFill>
        <p:spPr>
          <a:xfrm>
            <a:off x="1116000" y="1459080"/>
            <a:ext cx="6986520" cy="46083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571" name="Прямоугольник 3"/>
          <p:cNvSpPr/>
          <p:nvPr/>
        </p:nvSpPr>
        <p:spPr>
          <a:xfrm>
            <a:off x="0" y="44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Характеристика поднадзорных производств и объектов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2" name=""/>
          <p:cNvGraphicFramePr/>
          <p:nvPr/>
        </p:nvGraphicFramePr>
        <p:xfrm>
          <a:off x="241200" y="3948120"/>
          <a:ext cx="8723520" cy="2631960"/>
        </p:xfrm>
        <a:graphic>
          <a:graphicData uri="http://schemas.openxmlformats.org/drawingml/2006/table">
            <a:tbl>
              <a:tblPr/>
              <a:tblGrid>
                <a:gridCol w="370080"/>
                <a:gridCol w="2355840"/>
                <a:gridCol w="2755800"/>
                <a:gridCol w="3241800"/>
              </a:tblGrid>
              <a:tr h="399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c5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c5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редприятие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c5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Степень травмирования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c5ef"/>
                    </a:solidFill>
                  </a:tcPr>
                </a:tc>
              </a:tr>
              <a:tr h="473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1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13.01.2022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ЗАО «Магнитогорский завод прокатных валков»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Смертельный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</a:tr>
              <a:tr h="47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2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17.01.2022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ПАО «Надеждинский металлургический завод»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Тяжелый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</a:tr>
              <a:tr h="474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3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21.03.2022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АО «Екатеринбургский завод по обработке цветных металлов»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Тяжелый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4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09.04.2022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ООО «Полимет»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Смертельный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</a:tr>
              <a:tr h="474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5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13.04.2022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ПАО «Магнитогорский металлургический комбинат»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Тяжелый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</a:tr>
            </a:tbl>
          </a:graphicData>
        </a:graphic>
      </p:graphicFrame>
      <p:pic>
        <p:nvPicPr>
          <p:cNvPr id="573" name="Рисунок 6" descr=""/>
          <p:cNvPicPr/>
          <p:nvPr/>
        </p:nvPicPr>
        <p:blipFill>
          <a:blip r:embed="rId1"/>
          <a:stretch/>
        </p:blipFill>
        <p:spPr>
          <a:xfrm>
            <a:off x="-757080" y="307800"/>
            <a:ext cx="2993760" cy="173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4" name=""/>
          <p:cNvGraphicFramePr/>
          <p:nvPr/>
        </p:nvGraphicFramePr>
        <p:xfrm>
          <a:off x="219240" y="2262240"/>
          <a:ext cx="8723160" cy="1285920"/>
        </p:xfrm>
        <a:graphic>
          <a:graphicData uri="http://schemas.openxmlformats.org/drawingml/2006/table">
            <a:tbl>
              <a:tblPr/>
              <a:tblGrid>
                <a:gridCol w="377640"/>
                <a:gridCol w="2347920"/>
                <a:gridCol w="2755800"/>
                <a:gridCol w="3241800"/>
              </a:tblGrid>
              <a:tr h="380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c5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c5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редприятие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c5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Степень травмирования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c5ef"/>
                    </a:solidFill>
                  </a:tcPr>
                </a:tc>
              </a:tr>
              <a:tr h="33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1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23.02.2023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АО «Завод Уралпрокат»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Тяжелый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</a:tr>
              <a:tr h="285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2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06.04.2023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ПАО «ММК»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Тяжелый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</a:tr>
              <a:tr h="285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3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02.05.2023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060"/>
                          </a:solidFill>
                          <a:latin typeface="Cambria"/>
                          <a:ea typeface="Cambria"/>
                        </a:rPr>
                        <a:t>AO</a:t>
                      </a:r>
                      <a:r>
                        <a:rPr b="0" lang="en-US" sz="1200" spc="-1" strike="noStrike">
                          <a:solidFill>
                            <a:srgbClr val="002060"/>
                          </a:solidFill>
                          <a:latin typeface="Rockwell"/>
                        </a:rPr>
                        <a:t> «</a:t>
                      </a: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ЕВРАЗ НТМК»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Групповой</a:t>
                      </a:r>
                      <a:r>
                        <a:rPr b="0" lang="en-US" sz="1200" spc="-1" strike="noStrike">
                          <a:solidFill>
                            <a:srgbClr val="002060"/>
                          </a:solidFill>
                          <a:latin typeface="Rockwell"/>
                        </a:rPr>
                        <a:t> (</a:t>
                      </a: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1тяжёлый+1лёгкий</a:t>
                      </a:r>
                      <a:r>
                        <a:rPr b="0" lang="en-US" sz="1200" spc="-1" strike="noStrike">
                          <a:solidFill>
                            <a:srgbClr val="002060"/>
                          </a:solidFill>
                          <a:latin typeface="Rockwell"/>
                        </a:rPr>
                        <a:t>)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</a:tr>
            </a:tbl>
          </a:graphicData>
        </a:graphic>
      </p:graphicFrame>
      <p:sp>
        <p:nvSpPr>
          <p:cNvPr id="575" name="Прямоугольник 1"/>
          <p:cNvSpPr/>
          <p:nvPr/>
        </p:nvSpPr>
        <p:spPr>
          <a:xfrm>
            <a:off x="250920" y="3548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Количество несчастных случаев за аналогичный период 2022 года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6" name="Прямоугольник 2"/>
          <p:cNvSpPr/>
          <p:nvPr/>
        </p:nvSpPr>
        <p:spPr>
          <a:xfrm>
            <a:off x="250920" y="185904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Количество несчастных случаев с 1 января по 1 июня 2023 года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7" name="Прямоугольник 12"/>
          <p:cNvSpPr/>
          <p:nvPr/>
        </p:nvSpPr>
        <p:spPr>
          <a:xfrm>
            <a:off x="-27000" y="1238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оказатели аварийности и производственного травматизма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4" descr="C:\Задания\2019 год\1 Отчетность\Презентация АВ к 28 февраля (выполнено)\bmz_z3a9922.jpg"/>
          <p:cNvPicPr/>
          <p:nvPr/>
        </p:nvPicPr>
        <p:blipFill>
          <a:blip r:embed="rId1"/>
          <a:stretch/>
        </p:blipFill>
        <p:spPr>
          <a:xfrm>
            <a:off x="-30240" y="0"/>
            <a:ext cx="9174240" cy="6880320"/>
          </a:xfrm>
          <a:prstGeom prst="rect">
            <a:avLst/>
          </a:prstGeom>
          <a:ln w="0">
            <a:noFill/>
          </a:ln>
        </p:spPr>
      </p:pic>
      <p:sp>
        <p:nvSpPr>
          <p:cNvPr id="5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580" name="Диаграмма 3" descr=""/>
          <p:cNvPicPr/>
          <p:nvPr/>
        </p:nvPicPr>
        <p:blipFill>
          <a:blip r:embed="rId2"/>
          <a:stretch/>
        </p:blipFill>
        <p:spPr>
          <a:xfrm>
            <a:off x="184320" y="303120"/>
            <a:ext cx="8743680" cy="6438960"/>
          </a:xfrm>
          <a:prstGeom prst="rect">
            <a:avLst/>
          </a:prstGeom>
          <a:ln w="0">
            <a:noFill/>
          </a:ln>
        </p:spPr>
      </p:pic>
      <p:sp>
        <p:nvSpPr>
          <p:cNvPr id="581" name="Прямоугольник 4"/>
          <p:cNvSpPr/>
          <p:nvPr/>
        </p:nvSpPr>
        <p:spPr>
          <a:xfrm>
            <a:off x="0" y="122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казатели аварийности и производственного травматизма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4" descr="C:\Задания\2019 год\1 Отчетность\Презентация АВ к 28 февраля (выполнено)\bmz_z3a9922.jpg"/>
          <p:cNvPicPr/>
          <p:nvPr/>
        </p:nvPicPr>
        <p:blipFill>
          <a:blip r:embed="rId1"/>
          <a:stretch/>
        </p:blipFill>
        <p:spPr>
          <a:xfrm>
            <a:off x="-30240" y="0"/>
            <a:ext cx="9174240" cy="688032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584" name="Диаграмма 3" descr=""/>
          <p:cNvPicPr/>
          <p:nvPr/>
        </p:nvPicPr>
        <p:blipFill>
          <a:blip r:embed="rId2"/>
          <a:stretch/>
        </p:blipFill>
        <p:spPr>
          <a:xfrm>
            <a:off x="200160" y="209520"/>
            <a:ext cx="8743680" cy="6438960"/>
          </a:xfrm>
          <a:prstGeom prst="rect">
            <a:avLst/>
          </a:prstGeom>
          <a:ln w="0">
            <a:noFill/>
          </a:ln>
        </p:spPr>
      </p:pic>
      <p:sp>
        <p:nvSpPr>
          <p:cNvPr id="585" name="Прямоугольник 5"/>
          <p:cNvSpPr/>
          <p:nvPr/>
        </p:nvSpPr>
        <p:spPr>
          <a:xfrm>
            <a:off x="0" y="122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казатели аварийности и производственного травматизма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539640" y="765000"/>
            <a:ext cx="8136000" cy="5421600"/>
          </a:xfrm>
          <a:prstGeom prst="rect">
            <a:avLst/>
          </a:prstGeom>
          <a:solidFill>
            <a:srgbClr val="50698e"/>
          </a:solidFill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Cambria"/>
                <a:ea typeface="Times New Roman"/>
              </a:rPr>
              <a:t>Основные причины травматизма: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Cambria"/>
                <a:ea typeface="Times New Roman"/>
              </a:rPr>
              <a:t>Организационные причины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  <a:ea typeface="Times New Roman"/>
              </a:rPr>
              <a:t>- неудовлетворительная организация производства работ;</a:t>
            </a:r>
            <a:endParaRPr b="0" lang="en-US" sz="2000" spc="-1" strike="noStrike">
              <a:solidFill>
                <a:srgbClr val="00206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  <a:ea typeface="Times New Roman"/>
              </a:rPr>
              <a:t>- неэффективность производственного контроля за соблюдением требований промышленной безопасности.</a:t>
            </a:r>
            <a:endParaRPr b="0" lang="en-US" sz="2000" spc="-1" strike="noStrike">
              <a:solidFill>
                <a:srgbClr val="00206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Cambria"/>
                <a:ea typeface="Times New Roman"/>
              </a:rPr>
              <a:t>Технические причины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  <a:ea typeface="Times New Roman"/>
              </a:rPr>
              <a:t>- неудовлетворительное состояние технических устройств, сооружений, оборудования;</a:t>
            </a:r>
            <a:endParaRPr b="0" lang="en-US" sz="2000" spc="-1" strike="noStrike">
              <a:solidFill>
                <a:srgbClr val="00206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  <a:ea typeface="Times New Roman"/>
              </a:rPr>
              <a:t>- нарушение технологии производства работ;</a:t>
            </a:r>
            <a:endParaRPr b="0" lang="en-US" sz="2000" spc="-1" strike="noStrike">
              <a:solidFill>
                <a:srgbClr val="00206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  <a:ea typeface="Times New Roman"/>
              </a:rPr>
              <a:t>- конструктивные недостатки оборудования.</a:t>
            </a:r>
            <a:endParaRPr b="0" lang="en-US" sz="2000" spc="-1" strike="noStrike">
              <a:solidFill>
                <a:srgbClr val="00206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87" name="Прямоугольник 1"/>
          <p:cNvSpPr/>
          <p:nvPr/>
        </p:nvSpPr>
        <p:spPr>
          <a:xfrm>
            <a:off x="536400" y="189000"/>
            <a:ext cx="81378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Показатели аварийности и производственного травматизма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589" name="Диаграмма 3" descr=""/>
          <p:cNvPicPr/>
          <p:nvPr/>
        </p:nvPicPr>
        <p:blipFill>
          <a:blip r:embed="rId1"/>
          <a:stretch/>
        </p:blipFill>
        <p:spPr>
          <a:xfrm>
            <a:off x="200160" y="209520"/>
            <a:ext cx="8743680" cy="6222960"/>
          </a:xfrm>
          <a:prstGeom prst="rect">
            <a:avLst/>
          </a:prstGeom>
          <a:ln w="0">
            <a:noFill/>
          </a:ln>
        </p:spPr>
      </p:pic>
      <p:sp>
        <p:nvSpPr>
          <p:cNvPr id="590" name="Прямоугольник 4"/>
          <p:cNvSpPr/>
          <p:nvPr/>
        </p:nvSpPr>
        <p:spPr>
          <a:xfrm>
            <a:off x="0" y="122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оказатели аварийности и производственного травматизма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9T05:35:47Z</dcterms:created>
  <dc:creator>ОПО</dc:creator>
  <dc:description/>
  <dc:language>en-US</dc:language>
  <cp:lastModifiedBy>Шувалов Юрий Александрович</cp:lastModifiedBy>
  <dcterms:modified xsi:type="dcterms:W3CDTF">2023-06-05T04:39:38Z</dcterms:modified>
  <cp:revision>597</cp:revision>
  <dc:subject/>
  <dc:title>Презентация PowerPoint</dc:title>
</cp:coreProperties>
</file>