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C63A-59BB-4825-ADB1-07B1FE7FF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B69C-8288-44A0-9EE9-01E1C9C563BC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EE9-0428-43AD-A995-B41AA65C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DED-ED7C-4D79-A290-8D5FE342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AFA42-C4F0-4D1F-961A-2E55641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B9DEE-C922-46C3-9339-80EFCE58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82A11-61D5-4217-90A1-DE351EAB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80B0-361D-42D5-86C0-AEC1509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E356F-F247-49A6-ACB9-FD23F71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CC164-A099-4A3E-8A34-A898BA7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31D4-6FEB-4C26-94FC-F5AC8C1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73EE-A09D-4FC2-B73D-93D5A40E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22DCF-57C3-4E63-8E17-DAE96653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9688F-154B-4075-A48C-98858BFA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9F6-6ABD-4B8A-B017-42F7303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8A5C4-E73E-4A21-B032-23F9B9A0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BE147-AB9A-4E05-8B1B-E42277A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AC9BC-5DE3-4BCF-B738-4B476B9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B9317-4228-46DF-82D9-970AF2C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F5BC4-758E-4DEE-A2B1-D0C8C31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47E68-CE9F-4C50-83C1-F2A8FB8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08783-BC39-41A8-8A9E-ECCF1E6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5E0AB-68E4-4194-80F0-A8C30DAF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65B7D-13E2-452F-86D6-A8A06782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AD662-E609-483D-ACB0-EA9EB10F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C88-3094-4D37-9AC2-CCC63EED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7DB2D-6C25-4970-9101-24BD4FC8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AA071-D815-462C-8102-FC60B15A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8D8B-D475-4B60-8425-1321F23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F470B-BF26-4FF9-92FE-75E9596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DA745-BA9A-4CD5-933F-CC502386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11D5F-0CD2-4C39-8727-198D338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BB7D6-9BF9-49E4-888E-57823B16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C8D7-2575-497E-8C0C-CE2ED74B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72451-0A16-4A55-BAA0-9C0CB68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6FDE-72B3-49D6-9D48-ECE8582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0B1B-AB7D-45F6-9D88-1A985D12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F2C9-ECFF-48E0-AEBF-05E000A2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A74E4-5121-4EAF-9857-0E3E18D0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B99F2-E32B-4A78-8E9A-FCE24D6E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3DD34-3E63-4C97-B15E-43F37636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253CF-41DA-42B4-83CC-4FBD62F5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1764B-1165-4B83-AEFA-3DF5BA0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E6F3C-6D00-47C5-8902-1A16C743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67015-962C-4380-A94C-0ECDA0B4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3A4BF-CCA0-4E19-AD91-93AAD2B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6B5A1-F186-49C9-A993-26BC7CA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25B-835D-4695-B003-55CE7EA8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C5EAB-BB84-4E76-A49D-8EF851F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5125C-5594-4EC1-8AB4-A80BAEC8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9195A-7434-46DA-80A8-0044B3B5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80F53-5790-4CF1-856A-B3119BE7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7843F-DDF7-4709-8E25-02A1D5E6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1CD5-EEDC-4A7E-B3B0-8F4283E1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FF52-E7BD-4AA0-B34D-4076F473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8AEA-33FC-469A-ABB6-FAA53377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DD38-DF2C-44E9-8D32-169C865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FD12-BB61-4B8E-BF1E-1F6FB57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C7CE-F7E3-43EA-AF69-3E37F7B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3EF-4CDB-4D2A-B220-B0FAA55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432B-E920-4744-A8DB-9609C3A0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BCC8-9E0C-40C1-A08E-854E86F7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D118-7A8C-4390-B7B8-DA3E15C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FBF7-A5AF-45DE-A9EE-9F02A36A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984D-1C41-4CF7-B50B-5FE63E88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09AB-8A5E-4632-8640-1E82E7F6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82D0-8FCA-443C-B71F-A49D8E2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1CA5-D6B1-4888-8E20-6AFB0B9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F33F-8E4F-4354-97EE-15A4B9A8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4CC-251E-4557-9532-6C6CE1AD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D666-3B6A-48DA-8ECF-DDEE599D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FC8D-0CEF-43C3-B906-5D83D6D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1629-882F-47FC-A059-E40FCAF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AAF3-2B23-4510-A501-FF0122B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D22C-101C-4E0B-A669-6BE15FE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2016-FF18-4337-8937-6136AA0A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7FC4-09A6-487D-88BF-D6642791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CB8F-61B6-4457-BE85-6FB4D797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EB8D3-E9AE-41B0-85A0-F2AA7208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7FBB-A80D-4D56-8066-3F07D8F2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149-B063-40C8-A14B-231A20E0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9DA6-5552-4A4E-85B4-25F850B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6E63-B310-4745-8C18-6D052542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1B42-6B3D-47F2-B40F-E0C76AC9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11C7-6DC6-40B2-BA46-3AC7EFE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FD82-C02D-423B-BBE9-40EDF95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5F4E-5AE2-430D-80DA-45CCD92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4FF7-51A5-4B2C-8EAD-8ED2FED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BF29-C997-4875-B443-EFDE1319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F907F-1602-4B6A-A293-C6728970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6F71-445E-4C62-8131-31CF83FA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927-5FE2-4D7C-81A7-41481FF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3790-9560-469A-8684-7B2DC447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884D-D1B3-4EAE-99BB-744BB04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7A65-7B87-4FA2-A9D7-98C9215B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3FC3-B8EF-4D89-8695-9667F7DD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A5B6-61BA-4EC5-A56C-2B28906E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CEF1-0D15-4CAB-ADAB-B96D395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BF5D5-17C9-40BE-9FBB-0405F2E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CC9BD-7C56-4F7B-9651-731E5B0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2CB1-9D8F-47DB-A475-5ED0208C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528E-0C0F-43F0-93F1-1EDA371E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7EE-70B1-480E-BFF0-58C0EEB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64D6-3194-4FFB-ABC0-56874765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3E81-C3F1-4FD5-8C52-532C2136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F704F-17B3-49A6-9DC8-2DC492C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10065-3349-4550-AC0F-743ED118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495B-FF05-43FC-82CF-7080CE16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8D820-7DC7-40F8-9CE8-77C0132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E922-E517-464C-A646-1514324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6B13-7AE4-450C-9EED-08831A9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7465-8E2F-4817-92C7-B1BC529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F7E2-D538-45BE-8F73-9B81838D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361-6F73-46A9-A6E9-044849D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813E8-BDE1-49E1-A6C5-0BC5229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093F-6F9A-4B3C-A526-3B553889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F192-630E-405C-9CC7-F2C2D9E6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24652-CC5A-40B7-A648-C481786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DA8A-016C-4900-834B-99E5DCE2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81237-E716-4F6C-9D47-016383A8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D44CF-B682-4547-B638-A42ACFD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CB864-0679-4CC3-8E16-BC6C3096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9A68-197D-4647-92F1-9B60D2C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98D0-C530-46A9-8A93-B099838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747-3E26-442A-A834-6CEDEF03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E66D-FD4B-4754-ABD7-B9D5825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1027-5424-41A8-A62C-08932DE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225B6-4ADB-4C50-BA1A-AFFC0269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DB508-D7A8-4305-8413-AF551AE0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CA8F-F1CE-42E6-8301-2AD3C5BA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5699E-7CCF-4BB6-B334-838BF0A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DB8E-5774-4DAD-B96F-052C05D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3CD89-F2C2-426E-B1E4-A951AE4F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4212A-E009-416C-9979-C64CB8D8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023F0-E965-4C86-9D93-7527FCE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6B0-A3A0-4F3F-8359-F2CE79F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4AA3-BE04-45EE-A158-6FCA853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EE82-D854-4DFC-BD21-3BF3CBA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7606A-2FCA-4A59-BAE6-451CDDA1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C7D0-8926-4BDD-AB18-D9632815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4056-8DE7-4DC8-828F-1134618E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74D84-03DB-4B6D-9A59-61A841F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9F79-D9A0-430A-96FF-608CAF42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AA0AD-615B-42B2-821B-D2A630C1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E9F44-15F4-483D-B0E9-04C8B58D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42061-7ADF-4024-8D88-D671930A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0B08-3932-4EF1-9D15-F32E2AE8A666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DA13-81E6-449B-ABA6-D4BE96D5C41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EDCC-9E3C-4D3B-BB91-457321E979AC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80B-8990-4977-AF5B-C256728D740D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7FB2-B57B-4A5D-BF7B-00037159BA6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011F-84C2-4394-83EE-D0A9A16C0547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FDC-57C4-4B26-B08F-6223BB7254F0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6DD-470E-438A-BC4B-762F42D875DF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62A6-9448-401A-B5B8-54E6863B7B8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CC29-38FF-4555-B73B-3613859E74B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95C-42F2-423D-8BA3-F5FFA533D390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EE7F-E9AD-4515-BB66-0160DE3E43DB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398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горн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ОГИ РАБОТЫ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3 месяца 2023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7002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2"/>
          <a:stretch/>
        </p:blipFill>
        <p:spPr>
          <a:xfrm>
            <a:off x="179280" y="2952720"/>
            <a:ext cx="55152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4"/>
          <p:cNvSpPr/>
          <p:nvPr/>
        </p:nvSpPr>
        <p:spPr>
          <a:xfrm>
            <a:off x="923760" y="127800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чины тяжелого несчастного случая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гов Д.Ю. перемещался за сталеполимерными штангами для крепления бурового орта № 2, в районе сопряжения бурового орта № 2 с вентиляционным штреком № 3, передвигался Бараев Р.Р. на машине ПТ-4, когда он проехал мимо сопряжения, где 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гов Д.Ю.  находился, сорвало напорный рукав и ударило Стругова Д.Ю. - в эксплуатации технического устройства (машины ПТ-4 рег. № 1888) с нарушением соответствия требований завода изготовителя, а именно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длина транспортируемой горной массы превышающей требования паспорта тех-нического устройства ПТ-4 рег. № 1888, транспортируемой 156м при разрешенной 100м.;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Прямоугольник 6"/>
          <p:cNvSpPr/>
          <p:nvPr/>
        </p:nvSpPr>
        <p:spPr>
          <a:xfrm>
            <a:off x="923760" y="260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желый несчастный случай на предприяти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 «Богословское рудоуправление»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3"/>
          <p:cNvSpPr/>
          <p:nvPr/>
        </p:nvSpPr>
        <p:spPr>
          <a:xfrm>
            <a:off x="90000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ой несчастный случай на предприяти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 «ЮГК»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3" name="Прямоугольник 4"/>
          <p:cNvSpPr/>
          <p:nvPr/>
        </p:nvSpPr>
        <p:spPr>
          <a:xfrm>
            <a:off x="900000" y="1341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чины тяжелого несчастного случая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еспечения контроля со стороны руководителей и специалистов подразделения за ходом выполнения работы, соблюдением трудовой дисциплины. Недостаточный производственный контроль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Прямоугольник 3"/>
          <p:cNvSpPr/>
          <p:nvPr/>
        </p:nvSpPr>
        <p:spPr>
          <a:xfrm>
            <a:off x="90000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частный случай со смертельным исходом на предприяти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 «ЮГК»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5" name="Прямоугольник 4"/>
          <p:cNvSpPr/>
          <p:nvPr/>
        </p:nvSpPr>
        <p:spPr>
          <a:xfrm>
            <a:off x="892080" y="1268280"/>
            <a:ext cx="76327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чины тяжелого несчастного случая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удовлетворительная организация производства работ, выразившаяся в ненадлежащем осуществлении производственного контроля, а именно не организовано своевременное проведение экспертизы технического устройства ПДМ марки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CCY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3, инвентарный № 00007152 до начала применения на опасном производственном объекте, не обеспечена полнота сведений, представленных для регистрации в государственном реестре опасных производственных объектов (идентификация данного технического устройства в сведениях характеризующих опасный производственный объект), а также не приостановлена эксплуатация технического устройства ПДМ марки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CCY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3, инвентарный № 00007152 без проведения оценки соответствия предъявляемым к нему требованиям промышленной безопасности в результате чего при выполнении работ на вышеуказанной ПДМ Дунгбоев А.Э. получил травмы не совместимые с жизнь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4"/>
          <p:cNvSpPr/>
          <p:nvPr/>
        </p:nvSpPr>
        <p:spPr>
          <a:xfrm>
            <a:off x="900000" y="1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но (надзорные) мероприятия и выявленные нарушения требований промышленной безопасности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правлению в 1 квартале 2023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7" name="Диаграмма 5" descr=""/>
          <p:cNvPicPr/>
          <p:nvPr/>
        </p:nvPicPr>
        <p:blipFill>
          <a:blip r:embed="rId1"/>
          <a:stretch/>
        </p:blipFill>
        <p:spPr>
          <a:xfrm>
            <a:off x="344520" y="1865160"/>
            <a:ext cx="3125880" cy="486432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"/>
          <p:cNvSpPr/>
          <p:nvPr/>
        </p:nvSpPr>
        <p:spPr>
          <a:xfrm>
            <a:off x="900000" y="3906720"/>
            <a:ext cx="720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∑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3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Прямоугольник 11"/>
          <p:cNvSpPr/>
          <p:nvPr/>
        </p:nvSpPr>
        <p:spPr>
          <a:xfrm>
            <a:off x="3419640" y="2492280"/>
            <a:ext cx="360360" cy="289080"/>
          </a:xfrm>
          <a:prstGeom prst="rect">
            <a:avLst/>
          </a:prstGeom>
          <a:solidFill>
            <a:srgbClr val="ff6700"/>
          </a:solidFill>
          <a:ln w="25560">
            <a:solidFill>
              <a:srgbClr val="ff6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0" name="TextBox 12"/>
          <p:cNvSpPr/>
          <p:nvPr/>
        </p:nvSpPr>
        <p:spPr>
          <a:xfrm>
            <a:off x="3780000" y="216072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уществление постоянного государственного контроля (надзора)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1" name="Прямоугольник 13"/>
          <p:cNvSpPr/>
          <p:nvPr/>
        </p:nvSpPr>
        <p:spPr>
          <a:xfrm>
            <a:off x="3435480" y="3932280"/>
            <a:ext cx="360360" cy="288720"/>
          </a:xfrm>
          <a:prstGeom prst="rect">
            <a:avLst/>
          </a:prstGeom>
          <a:solidFill>
            <a:srgbClr val="70a525"/>
          </a:solidFill>
          <a:ln w="25560">
            <a:solidFill>
              <a:srgbClr val="70a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2" name="TextBox 14"/>
          <p:cNvSpPr/>
          <p:nvPr/>
        </p:nvSpPr>
        <p:spPr>
          <a:xfrm>
            <a:off x="3851280" y="3706920"/>
            <a:ext cx="244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уществление плановых контрольных (надзорных) мероприятий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93" name="Диаграмма 15" descr=""/>
          <p:cNvPicPr/>
          <p:nvPr/>
        </p:nvPicPr>
        <p:blipFill>
          <a:blip r:embed="rId2"/>
          <a:stretch/>
        </p:blipFill>
        <p:spPr>
          <a:xfrm>
            <a:off x="5580000" y="1866960"/>
            <a:ext cx="3125880" cy="486396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6"/>
          <p:cNvSpPr/>
          <p:nvPr/>
        </p:nvSpPr>
        <p:spPr>
          <a:xfrm>
            <a:off x="318960" y="13273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но (надзорные)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 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5" name="TextBox 17"/>
          <p:cNvSpPr/>
          <p:nvPr/>
        </p:nvSpPr>
        <p:spPr>
          <a:xfrm>
            <a:off x="5796000" y="13273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енные нарушения требований промышленной безопасности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6" name="TextBox 1"/>
          <p:cNvSpPr/>
          <p:nvPr/>
        </p:nvSpPr>
        <p:spPr>
          <a:xfrm>
            <a:off x="7451640" y="2013120"/>
            <a:ext cx="785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∑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63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Диаграмма 2" descr=""/>
          <p:cNvPicPr/>
          <p:nvPr/>
        </p:nvPicPr>
        <p:blipFill>
          <a:blip r:embed="rId1"/>
          <a:stretch/>
        </p:blipFill>
        <p:spPr>
          <a:xfrm>
            <a:off x="57240" y="2046240"/>
            <a:ext cx="3125520" cy="4864320"/>
          </a:xfrm>
          <a:prstGeom prst="rect">
            <a:avLst/>
          </a:prstGeom>
          <a:ln w="0">
            <a:noFill/>
          </a:ln>
        </p:spPr>
      </p:pic>
      <p:pic>
        <p:nvPicPr>
          <p:cNvPr id="598" name="Диаграмма 4" descr=""/>
          <p:cNvPicPr/>
          <p:nvPr/>
        </p:nvPicPr>
        <p:blipFill>
          <a:blip r:embed="rId2"/>
          <a:stretch/>
        </p:blipFill>
        <p:spPr>
          <a:xfrm>
            <a:off x="5932440" y="2009880"/>
            <a:ext cx="3154320" cy="47718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-5040" y="1014480"/>
            <a:ext cx="3074760" cy="89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Количество административных штрафов 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00" name="Заголовок 2"/>
          <p:cNvSpPr/>
          <p:nvPr/>
        </p:nvSpPr>
        <p:spPr>
          <a:xfrm>
            <a:off x="6043680" y="887400"/>
            <a:ext cx="3394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Сумма наложенных штрафов,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тыс. рублей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1619280" y="1112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МИНИСТРАТИВНОЕ ДЕЛОПРОИЗВОДСТВ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МОГН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TextBox 1"/>
          <p:cNvSpPr/>
          <p:nvPr/>
        </p:nvSpPr>
        <p:spPr>
          <a:xfrm>
            <a:off x="468360" y="22622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∑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6254640" y="482760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∑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2890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4" name="TextBox 9"/>
          <p:cNvSpPr/>
          <p:nvPr/>
        </p:nvSpPr>
        <p:spPr>
          <a:xfrm>
            <a:off x="7718400" y="480384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∑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550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3"/>
          <a:stretch/>
        </p:blipFill>
        <p:spPr>
          <a:xfrm>
            <a:off x="3346560" y="3591000"/>
            <a:ext cx="259704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4"/>
          <p:cNvSpPr/>
          <p:nvPr/>
        </p:nvSpPr>
        <p:spPr>
          <a:xfrm>
            <a:off x="90000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облемы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язанные с обеспечением безопасности.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TextBox 1"/>
          <p:cNvSpPr/>
          <p:nvPr/>
        </p:nvSpPr>
        <p:spPr>
          <a:xfrm>
            <a:off x="179280" y="1197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правлении в горнорудной и нерудной промышленности эксплуатируется </a:t>
            </a: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7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ПО, из которых 29 не имеют полюса обязательного страхования гражданской ответственности за причинение вреда в результате аварии или инцидента на опасном производственном объекте.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й лицензионных требований за отчетный период не выявлено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блемой организаций горнорудной и нерудной промышленности является изношенность основных производственных фондов, что конечно решается путем проведения капитальных ремонтов и выполнением мероприятий по результатам проведенных экспертиз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95640" y="2530080"/>
            <a:ext cx="54720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188640"/>
            <a:ext cx="9151920" cy="129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31.03.2023  Уральским управлением Ростехнадзора зарегистрировано 266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рганизац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7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горному надзору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93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218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6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Диаграмма 4" descr=""/>
          <p:cNvPicPr/>
          <p:nvPr/>
        </p:nvPicPr>
        <p:blipFill>
          <a:blip r:embed="rId1"/>
          <a:stretch/>
        </p:blipFill>
        <p:spPr>
          <a:xfrm>
            <a:off x="57240" y="65160"/>
            <a:ext cx="5683320" cy="67276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"/>
          <p:cNvSpPr/>
          <p:nvPr/>
        </p:nvSpPr>
        <p:spPr>
          <a:xfrm>
            <a:off x="4067280" y="63504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ределение ОПО по классам опасности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25360" y="1916280"/>
          <a:ext cx="8739360" cy="1457280"/>
        </p:xfrm>
        <a:graphic>
          <a:graphicData uri="http://schemas.openxmlformats.org/drawingml/2006/table">
            <a:tbl>
              <a:tblPr/>
              <a:tblGrid>
                <a:gridCol w="1617840"/>
                <a:gridCol w="3271680"/>
                <a:gridCol w="38498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1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.01.2023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Пласт-Рифей»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 смертельным исходом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.01.2023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Богословское рудоуправление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6.03.2023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ЮГК»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 (авария)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.03.2023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ЮГК»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 смертельным исходом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pic>
        <p:nvPicPr>
          <p:cNvPr id="566" name="Рисунок 6" descr=""/>
          <p:cNvPicPr/>
          <p:nvPr/>
        </p:nvPicPr>
        <p:blipFill>
          <a:blip r:embed="rId1"/>
          <a:stretch/>
        </p:blipFill>
        <p:spPr>
          <a:xfrm>
            <a:off x="2716200" y="60480"/>
            <a:ext cx="2994120" cy="20682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"/>
          <p:cNvSpPr/>
          <p:nvPr/>
        </p:nvSpPr>
        <p:spPr>
          <a:xfrm>
            <a:off x="5076720" y="425520"/>
            <a:ext cx="388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НА ПОДНАДЗОРНЫХ ОБЪЕКТАХ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Прямая соединительная линия 3"/>
          <p:cNvSpPr/>
          <p:nvPr/>
        </p:nvSpPr>
        <p:spPr>
          <a:xfrm>
            <a:off x="5076720" y="171360"/>
            <a:ext cx="0" cy="1846440"/>
          </a:xfrm>
          <a:prstGeom prst="line">
            <a:avLst/>
          </a:prstGeom>
          <a:ln w="57240">
            <a:solidFill>
              <a:srgbClr val="002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 rot="907200">
            <a:off x="402480" y="417600"/>
            <a:ext cx="34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Р А В М А Т И З М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72" name="Диаграмма 3" descr=""/>
          <p:cNvPicPr/>
          <p:nvPr/>
        </p:nvPicPr>
        <p:blipFill>
          <a:blip r:embed="rId2"/>
          <a:stretch/>
        </p:blipFill>
        <p:spPr>
          <a:xfrm>
            <a:off x="200160" y="209520"/>
            <a:ext cx="8743680" cy="64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539640" y="765000"/>
            <a:ext cx="8136000" cy="5421600"/>
          </a:xfrm>
          <a:prstGeom prst="rect">
            <a:avLst/>
          </a:prstGeom>
          <a:solidFill>
            <a:srgbClr val="50698e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Большая часть причин – организационные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рганизационны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ая организация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эффективность производственного контроля за соблюдением требований промышленной безопасности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Технически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ое состояние технических устройств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арушение технологии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конструктивные недостатки оборудования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75" name="Диаграмма 3" descr=""/>
          <p:cNvPicPr/>
          <p:nvPr/>
        </p:nvPicPr>
        <p:blipFill>
          <a:blip r:embed="rId1"/>
          <a:stretch/>
        </p:blipFill>
        <p:spPr>
          <a:xfrm>
            <a:off x="200160" y="282600"/>
            <a:ext cx="8743680" cy="62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792000" y="168120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ричины произошедшей аварии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еспечение контроля со стороны руководителей и специалистов подразделения за ходом выполнения работы, выразившееся в недостатках организации и осуществления производственного контроля, а именно в части допуска к работе по заряжанию забоя штрек №2 запад горизонта 812м  проходчиками Багинским В.В. и Капенкиным А.С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Прямоугольник 4"/>
          <p:cNvSpPr/>
          <p:nvPr/>
        </p:nvSpPr>
        <p:spPr>
          <a:xfrm>
            <a:off x="900000" y="1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ария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елябинской области произошла в 2023 году на предприятие АО «ЮГК»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3"/>
          <p:cNvSpPr/>
          <p:nvPr/>
        </p:nvSpPr>
        <p:spPr>
          <a:xfrm>
            <a:off x="971640" y="1268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причина несчастного случая со смертельным исходом: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рименение средств коллективной защиты от воздействия  механических факторов, выразившееся в отсутствии защитного ограждения ленточного конвейера во время его эксплуатации.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9" name="Прямоугольник 4"/>
          <p:cNvSpPr/>
          <p:nvPr/>
        </p:nvSpPr>
        <p:spPr>
          <a:xfrm>
            <a:off x="90000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частный случай со смертельным исходом на предприятии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ОО «Пласт-Рифей»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Шувалов Юрий Александрович</cp:lastModifiedBy>
  <dcterms:modified xsi:type="dcterms:W3CDTF">2023-06-05T04:39:10Z</dcterms:modified>
  <cp:revision>601</cp:revision>
  <dc:subject/>
  <dc:title>Презентация PowerPoint</dc:title>
</cp:coreProperties>
</file>